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280160" y="361440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5372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604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3228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28016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0604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73228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280160" y="2090880"/>
            <a:ext cx="658332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658332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280160" y="1114920"/>
            <a:ext cx="6583320" cy="38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5372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"/>
          <p:cNvGrpSpPr/>
          <p:nvPr/>
        </p:nvGrpSpPr>
        <p:grpSpPr>
          <a:xfrm>
            <a:off x="1333440" y="343080"/>
            <a:ext cx="6248520" cy="6248160"/>
            <a:chOff x="1333440" y="343080"/>
            <a:chExt cx="6248520" cy="6248160"/>
          </a:xfrm>
        </p:grpSpPr>
        <p:grpSp>
          <p:nvGrpSpPr>
            <p:cNvPr id="38" name=""/>
            <p:cNvGrpSpPr/>
            <p:nvPr/>
          </p:nvGrpSpPr>
          <p:grpSpPr>
            <a:xfrm>
              <a:off x="1333440" y="343080"/>
              <a:ext cx="6248520" cy="6248160"/>
              <a:chOff x="1333440" y="343080"/>
              <a:chExt cx="6248520" cy="6248160"/>
            </a:xfrm>
          </p:grpSpPr>
          <p:sp>
            <p:nvSpPr>
              <p:cNvPr id="39" name=""/>
              <p:cNvSpPr/>
              <p:nvPr/>
            </p:nvSpPr>
            <p:spPr>
              <a:xfrm flipH="1">
                <a:off x="2514600" y="990720"/>
                <a:ext cx="3886200" cy="495288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flipH="1" flipV="1">
                <a:off x="4079880" y="343080"/>
                <a:ext cx="755640" cy="624816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flipH="1">
                <a:off x="1333440" y="3089160"/>
                <a:ext cx="6248520" cy="75564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H="1" flipV="1">
                <a:off x="1981080" y="1523880"/>
                <a:ext cx="4953240" cy="388620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" name=""/>
            <p:cNvGrpSpPr/>
            <p:nvPr/>
          </p:nvGrpSpPr>
          <p:grpSpPr>
            <a:xfrm>
              <a:off x="1433520" y="442800"/>
              <a:ext cx="6048360" cy="6048360"/>
              <a:chOff x="1433520" y="442800"/>
              <a:chExt cx="6048360" cy="6048360"/>
            </a:xfrm>
          </p:grpSpPr>
          <p:sp>
            <p:nvSpPr>
              <p:cNvPr id="44" name=""/>
              <p:cNvSpPr/>
              <p:nvPr/>
            </p:nvSpPr>
            <p:spPr>
              <a:xfrm flipH="1">
                <a:off x="1700280" y="1946160"/>
                <a:ext cx="5514840" cy="304164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flipV="1">
                <a:off x="3584520" y="442800"/>
                <a:ext cx="1746360" cy="6048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H="1" flipV="1">
                <a:off x="1433520" y="2593800"/>
                <a:ext cx="6048360" cy="1746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 flipV="1">
                <a:off x="2936880" y="709560"/>
                <a:ext cx="3041640" cy="551520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1830240" y="879480"/>
              <a:ext cx="5169600" cy="5182200"/>
              <a:chOff x="1830240" y="879480"/>
              <a:chExt cx="5169600" cy="5182200"/>
            </a:xfrm>
          </p:grpSpPr>
          <p:sp>
            <p:nvSpPr>
              <p:cNvPr id="49" name=""/>
              <p:cNvSpPr/>
              <p:nvPr/>
            </p:nvSpPr>
            <p:spPr>
              <a:xfrm>
                <a:off x="4495680" y="914400"/>
                <a:ext cx="1190880" cy="1553040"/>
              </a:xfrm>
              <a:custGeom>
                <a:avLst/>
                <a:gdLst/>
                <a:ahLst/>
                <a:rect l="0" t="0" r="r" b="b"/>
                <a:pathLst>
                  <a:path w="3308" h="4314">
                    <a:moveTo>
                      <a:pt x="0" y="4235"/>
                    </a:moveTo>
                    <a:lnTo>
                      <a:pt x="52" y="4155"/>
                    </a:lnTo>
                    <a:lnTo>
                      <a:pt x="79" y="4076"/>
                    </a:lnTo>
                    <a:lnTo>
                      <a:pt x="79" y="3997"/>
                    </a:lnTo>
                    <a:lnTo>
                      <a:pt x="79" y="3917"/>
                    </a:lnTo>
                    <a:lnTo>
                      <a:pt x="105" y="3838"/>
                    </a:lnTo>
                    <a:lnTo>
                      <a:pt x="132" y="3759"/>
                    </a:lnTo>
                    <a:lnTo>
                      <a:pt x="132" y="3679"/>
                    </a:lnTo>
                    <a:lnTo>
                      <a:pt x="185" y="3600"/>
                    </a:lnTo>
                    <a:lnTo>
                      <a:pt x="211" y="3520"/>
                    </a:lnTo>
                    <a:lnTo>
                      <a:pt x="238" y="3441"/>
                    </a:lnTo>
                    <a:lnTo>
                      <a:pt x="264" y="3362"/>
                    </a:lnTo>
                    <a:lnTo>
                      <a:pt x="317" y="3282"/>
                    </a:lnTo>
                    <a:lnTo>
                      <a:pt x="370" y="3202"/>
                    </a:lnTo>
                    <a:lnTo>
                      <a:pt x="449" y="3149"/>
                    </a:lnTo>
                    <a:lnTo>
                      <a:pt x="502" y="3070"/>
                    </a:lnTo>
                    <a:lnTo>
                      <a:pt x="555" y="2990"/>
                    </a:lnTo>
                    <a:lnTo>
                      <a:pt x="608" y="2911"/>
                    </a:lnTo>
                    <a:lnTo>
                      <a:pt x="687" y="2884"/>
                    </a:lnTo>
                    <a:lnTo>
                      <a:pt x="767" y="2858"/>
                    </a:lnTo>
                    <a:lnTo>
                      <a:pt x="846" y="2832"/>
                    </a:lnTo>
                    <a:lnTo>
                      <a:pt x="926" y="2805"/>
                    </a:lnTo>
                    <a:lnTo>
                      <a:pt x="1005" y="2779"/>
                    </a:lnTo>
                    <a:lnTo>
                      <a:pt x="1084" y="2752"/>
                    </a:lnTo>
                    <a:lnTo>
                      <a:pt x="1164" y="2726"/>
                    </a:lnTo>
                    <a:lnTo>
                      <a:pt x="1243" y="2699"/>
                    </a:lnTo>
                    <a:lnTo>
                      <a:pt x="1322" y="2673"/>
                    </a:lnTo>
                    <a:lnTo>
                      <a:pt x="1402" y="2673"/>
                    </a:lnTo>
                    <a:lnTo>
                      <a:pt x="1481" y="2620"/>
                    </a:lnTo>
                    <a:lnTo>
                      <a:pt x="1561" y="2567"/>
                    </a:lnTo>
                    <a:lnTo>
                      <a:pt x="1640" y="2488"/>
                    </a:lnTo>
                    <a:lnTo>
                      <a:pt x="1720" y="2461"/>
                    </a:lnTo>
                    <a:lnTo>
                      <a:pt x="1800" y="2382"/>
                    </a:lnTo>
                    <a:lnTo>
                      <a:pt x="1879" y="2329"/>
                    </a:lnTo>
                    <a:lnTo>
                      <a:pt x="1932" y="2249"/>
                    </a:lnTo>
                    <a:lnTo>
                      <a:pt x="2011" y="2197"/>
                    </a:lnTo>
                    <a:lnTo>
                      <a:pt x="2064" y="2117"/>
                    </a:lnTo>
                    <a:lnTo>
                      <a:pt x="2144" y="2064"/>
                    </a:lnTo>
                    <a:lnTo>
                      <a:pt x="2223" y="1985"/>
                    </a:lnTo>
                    <a:lnTo>
                      <a:pt x="2276" y="1906"/>
                    </a:lnTo>
                    <a:lnTo>
                      <a:pt x="2302" y="1826"/>
                    </a:lnTo>
                    <a:lnTo>
                      <a:pt x="2355" y="1747"/>
                    </a:lnTo>
                    <a:lnTo>
                      <a:pt x="2382" y="1667"/>
                    </a:lnTo>
                    <a:lnTo>
                      <a:pt x="2435" y="1588"/>
                    </a:lnTo>
                    <a:lnTo>
                      <a:pt x="2435" y="1509"/>
                    </a:lnTo>
                    <a:lnTo>
                      <a:pt x="2435" y="1429"/>
                    </a:lnTo>
                    <a:lnTo>
                      <a:pt x="2435" y="1323"/>
                    </a:lnTo>
                    <a:lnTo>
                      <a:pt x="2435" y="1244"/>
                    </a:lnTo>
                    <a:lnTo>
                      <a:pt x="2435" y="1165"/>
                    </a:lnTo>
                    <a:lnTo>
                      <a:pt x="2435" y="1085"/>
                    </a:lnTo>
                    <a:lnTo>
                      <a:pt x="2461" y="1005"/>
                    </a:lnTo>
                    <a:lnTo>
                      <a:pt x="2488" y="926"/>
                    </a:lnTo>
                    <a:lnTo>
                      <a:pt x="2514" y="846"/>
                    </a:lnTo>
                    <a:lnTo>
                      <a:pt x="2541" y="767"/>
                    </a:lnTo>
                    <a:lnTo>
                      <a:pt x="2567" y="687"/>
                    </a:lnTo>
                    <a:lnTo>
                      <a:pt x="2567" y="608"/>
                    </a:lnTo>
                    <a:lnTo>
                      <a:pt x="2593" y="529"/>
                    </a:lnTo>
                    <a:lnTo>
                      <a:pt x="2646" y="449"/>
                    </a:lnTo>
                    <a:lnTo>
                      <a:pt x="2699" y="370"/>
                    </a:lnTo>
                    <a:lnTo>
                      <a:pt x="2779" y="317"/>
                    </a:lnTo>
                    <a:lnTo>
                      <a:pt x="2805" y="238"/>
                    </a:lnTo>
                    <a:lnTo>
                      <a:pt x="2884" y="211"/>
                    </a:lnTo>
                    <a:lnTo>
                      <a:pt x="2964" y="132"/>
                    </a:lnTo>
                    <a:lnTo>
                      <a:pt x="3043" y="105"/>
                    </a:lnTo>
                    <a:lnTo>
                      <a:pt x="3123" y="79"/>
                    </a:lnTo>
                    <a:lnTo>
                      <a:pt x="3202" y="52"/>
                    </a:lnTo>
                    <a:lnTo>
                      <a:pt x="3281" y="0"/>
                    </a:lnTo>
                    <a:lnTo>
                      <a:pt x="3308" y="79"/>
                    </a:lnTo>
                    <a:lnTo>
                      <a:pt x="3308" y="158"/>
                    </a:lnTo>
                    <a:lnTo>
                      <a:pt x="3255" y="238"/>
                    </a:lnTo>
                    <a:lnTo>
                      <a:pt x="3228" y="317"/>
                    </a:lnTo>
                    <a:lnTo>
                      <a:pt x="3149" y="370"/>
                    </a:lnTo>
                    <a:lnTo>
                      <a:pt x="3096" y="449"/>
                    </a:lnTo>
                    <a:lnTo>
                      <a:pt x="3017" y="529"/>
                    </a:lnTo>
                    <a:lnTo>
                      <a:pt x="2990" y="608"/>
                    </a:lnTo>
                    <a:lnTo>
                      <a:pt x="2990" y="687"/>
                    </a:lnTo>
                    <a:lnTo>
                      <a:pt x="2990" y="767"/>
                    </a:lnTo>
                    <a:lnTo>
                      <a:pt x="2964" y="846"/>
                    </a:lnTo>
                    <a:lnTo>
                      <a:pt x="2937" y="926"/>
                    </a:lnTo>
                    <a:lnTo>
                      <a:pt x="2937" y="1005"/>
                    </a:lnTo>
                    <a:lnTo>
                      <a:pt x="2937" y="1085"/>
                    </a:lnTo>
                    <a:lnTo>
                      <a:pt x="2937" y="1165"/>
                    </a:lnTo>
                    <a:lnTo>
                      <a:pt x="2937" y="1244"/>
                    </a:lnTo>
                    <a:lnTo>
                      <a:pt x="2937" y="1323"/>
                    </a:lnTo>
                    <a:lnTo>
                      <a:pt x="2937" y="1403"/>
                    </a:lnTo>
                    <a:lnTo>
                      <a:pt x="2937" y="1482"/>
                    </a:lnTo>
                    <a:lnTo>
                      <a:pt x="2937" y="1562"/>
                    </a:lnTo>
                    <a:lnTo>
                      <a:pt x="2937" y="1641"/>
                    </a:lnTo>
                    <a:lnTo>
                      <a:pt x="2937" y="1720"/>
                    </a:lnTo>
                    <a:lnTo>
                      <a:pt x="2937" y="1800"/>
                    </a:lnTo>
                    <a:lnTo>
                      <a:pt x="2911" y="1879"/>
                    </a:lnTo>
                    <a:lnTo>
                      <a:pt x="2911" y="1958"/>
                    </a:lnTo>
                    <a:lnTo>
                      <a:pt x="2911" y="2038"/>
                    </a:lnTo>
                    <a:lnTo>
                      <a:pt x="2884" y="2117"/>
                    </a:lnTo>
                    <a:lnTo>
                      <a:pt x="2832" y="2197"/>
                    </a:lnTo>
                    <a:lnTo>
                      <a:pt x="2805" y="2276"/>
                    </a:lnTo>
                    <a:lnTo>
                      <a:pt x="2779" y="2355"/>
                    </a:lnTo>
                    <a:lnTo>
                      <a:pt x="2699" y="2435"/>
                    </a:lnTo>
                    <a:lnTo>
                      <a:pt x="2646" y="2514"/>
                    </a:lnTo>
                    <a:lnTo>
                      <a:pt x="2567" y="2593"/>
                    </a:lnTo>
                    <a:lnTo>
                      <a:pt x="2514" y="2673"/>
                    </a:lnTo>
                    <a:lnTo>
                      <a:pt x="2461" y="2752"/>
                    </a:lnTo>
                    <a:lnTo>
                      <a:pt x="2382" y="2805"/>
                    </a:lnTo>
                    <a:lnTo>
                      <a:pt x="2329" y="2884"/>
                    </a:lnTo>
                    <a:lnTo>
                      <a:pt x="2276" y="2964"/>
                    </a:lnTo>
                    <a:lnTo>
                      <a:pt x="2197" y="3043"/>
                    </a:lnTo>
                    <a:lnTo>
                      <a:pt x="2144" y="3123"/>
                    </a:lnTo>
                    <a:lnTo>
                      <a:pt x="2117" y="3202"/>
                    </a:lnTo>
                    <a:lnTo>
                      <a:pt x="2064" y="3282"/>
                    </a:lnTo>
                    <a:lnTo>
                      <a:pt x="2038" y="3362"/>
                    </a:lnTo>
                    <a:lnTo>
                      <a:pt x="1985" y="3441"/>
                    </a:lnTo>
                    <a:lnTo>
                      <a:pt x="1958" y="3520"/>
                    </a:lnTo>
                    <a:lnTo>
                      <a:pt x="1958" y="3600"/>
                    </a:lnTo>
                    <a:lnTo>
                      <a:pt x="1932" y="3679"/>
                    </a:lnTo>
                    <a:lnTo>
                      <a:pt x="1932" y="3759"/>
                    </a:lnTo>
                    <a:lnTo>
                      <a:pt x="1932" y="3838"/>
                    </a:lnTo>
                    <a:lnTo>
                      <a:pt x="1906" y="3917"/>
                    </a:lnTo>
                    <a:lnTo>
                      <a:pt x="1906" y="3997"/>
                    </a:lnTo>
                    <a:lnTo>
                      <a:pt x="1879" y="4076"/>
                    </a:lnTo>
                    <a:lnTo>
                      <a:pt x="1853" y="4155"/>
                    </a:lnTo>
                    <a:lnTo>
                      <a:pt x="1853" y="4235"/>
                    </a:lnTo>
                    <a:lnTo>
                      <a:pt x="1826" y="4314"/>
                    </a:lnTo>
                    <a:lnTo>
                      <a:pt x="0" y="4235"/>
                    </a:lnTo>
                    <a:close/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056200" y="2562120"/>
                <a:ext cx="1913400" cy="789480"/>
              </a:xfrm>
              <a:custGeom>
                <a:avLst/>
                <a:gdLst/>
                <a:ahLst/>
                <a:rect l="0" t="0" r="r" b="b"/>
                <a:pathLst>
                  <a:path w="5315" h="2193">
                    <a:moveTo>
                      <a:pt x="0" y="843"/>
                    </a:moveTo>
                    <a:lnTo>
                      <a:pt x="92" y="821"/>
                    </a:lnTo>
                    <a:lnTo>
                      <a:pt x="167" y="790"/>
                    </a:lnTo>
                    <a:lnTo>
                      <a:pt x="224" y="733"/>
                    </a:lnTo>
                    <a:lnTo>
                      <a:pt x="282" y="675"/>
                    </a:lnTo>
                    <a:lnTo>
                      <a:pt x="357" y="636"/>
                    </a:lnTo>
                    <a:lnTo>
                      <a:pt x="427" y="600"/>
                    </a:lnTo>
                    <a:lnTo>
                      <a:pt x="485" y="542"/>
                    </a:lnTo>
                    <a:lnTo>
                      <a:pt x="582" y="524"/>
                    </a:lnTo>
                    <a:lnTo>
                      <a:pt x="657" y="485"/>
                    </a:lnTo>
                    <a:lnTo>
                      <a:pt x="727" y="449"/>
                    </a:lnTo>
                    <a:lnTo>
                      <a:pt x="802" y="410"/>
                    </a:lnTo>
                    <a:lnTo>
                      <a:pt x="899" y="392"/>
                    </a:lnTo>
                    <a:lnTo>
                      <a:pt x="987" y="374"/>
                    </a:lnTo>
                    <a:lnTo>
                      <a:pt x="1084" y="392"/>
                    </a:lnTo>
                    <a:lnTo>
                      <a:pt x="1177" y="370"/>
                    </a:lnTo>
                    <a:lnTo>
                      <a:pt x="1270" y="357"/>
                    </a:lnTo>
                    <a:lnTo>
                      <a:pt x="1363" y="335"/>
                    </a:lnTo>
                    <a:lnTo>
                      <a:pt x="1438" y="374"/>
                    </a:lnTo>
                    <a:lnTo>
                      <a:pt x="1517" y="410"/>
                    </a:lnTo>
                    <a:lnTo>
                      <a:pt x="1592" y="449"/>
                    </a:lnTo>
                    <a:lnTo>
                      <a:pt x="1663" y="485"/>
                    </a:lnTo>
                    <a:lnTo>
                      <a:pt x="1738" y="524"/>
                    </a:lnTo>
                    <a:lnTo>
                      <a:pt x="1817" y="561"/>
                    </a:lnTo>
                    <a:lnTo>
                      <a:pt x="1892" y="600"/>
                    </a:lnTo>
                    <a:lnTo>
                      <a:pt x="1963" y="636"/>
                    </a:lnTo>
                    <a:lnTo>
                      <a:pt x="2038" y="675"/>
                    </a:lnTo>
                    <a:lnTo>
                      <a:pt x="2095" y="733"/>
                    </a:lnTo>
                    <a:lnTo>
                      <a:pt x="2188" y="746"/>
                    </a:lnTo>
                    <a:lnTo>
                      <a:pt x="2280" y="768"/>
                    </a:lnTo>
                    <a:lnTo>
                      <a:pt x="2395" y="768"/>
                    </a:lnTo>
                    <a:lnTo>
                      <a:pt x="2470" y="807"/>
                    </a:lnTo>
                    <a:lnTo>
                      <a:pt x="2580" y="803"/>
                    </a:lnTo>
                    <a:lnTo>
                      <a:pt x="2673" y="825"/>
                    </a:lnTo>
                    <a:lnTo>
                      <a:pt x="2770" y="807"/>
                    </a:lnTo>
                    <a:lnTo>
                      <a:pt x="2862" y="821"/>
                    </a:lnTo>
                    <a:lnTo>
                      <a:pt x="2955" y="807"/>
                    </a:lnTo>
                    <a:lnTo>
                      <a:pt x="3048" y="821"/>
                    </a:lnTo>
                    <a:lnTo>
                      <a:pt x="3162" y="821"/>
                    </a:lnTo>
                    <a:lnTo>
                      <a:pt x="3255" y="807"/>
                    </a:lnTo>
                    <a:lnTo>
                      <a:pt x="3330" y="768"/>
                    </a:lnTo>
                    <a:lnTo>
                      <a:pt x="3422" y="746"/>
                    </a:lnTo>
                    <a:lnTo>
                      <a:pt x="3497" y="715"/>
                    </a:lnTo>
                    <a:lnTo>
                      <a:pt x="3590" y="693"/>
                    </a:lnTo>
                    <a:lnTo>
                      <a:pt x="3647" y="636"/>
                    </a:lnTo>
                    <a:lnTo>
                      <a:pt x="3705" y="578"/>
                    </a:lnTo>
                    <a:lnTo>
                      <a:pt x="3780" y="502"/>
                    </a:lnTo>
                    <a:lnTo>
                      <a:pt x="3833" y="449"/>
                    </a:lnTo>
                    <a:lnTo>
                      <a:pt x="3890" y="392"/>
                    </a:lnTo>
                    <a:lnTo>
                      <a:pt x="3947" y="335"/>
                    </a:lnTo>
                    <a:lnTo>
                      <a:pt x="4023" y="295"/>
                    </a:lnTo>
                    <a:lnTo>
                      <a:pt x="4098" y="264"/>
                    </a:lnTo>
                    <a:lnTo>
                      <a:pt x="4173" y="224"/>
                    </a:lnTo>
                    <a:lnTo>
                      <a:pt x="4248" y="185"/>
                    </a:lnTo>
                    <a:lnTo>
                      <a:pt x="4319" y="149"/>
                    </a:lnTo>
                    <a:lnTo>
                      <a:pt x="4376" y="92"/>
                    </a:lnTo>
                    <a:lnTo>
                      <a:pt x="4455" y="57"/>
                    </a:lnTo>
                    <a:lnTo>
                      <a:pt x="4548" y="35"/>
                    </a:lnTo>
                    <a:lnTo>
                      <a:pt x="4641" y="22"/>
                    </a:lnTo>
                    <a:lnTo>
                      <a:pt x="4733" y="35"/>
                    </a:lnTo>
                    <a:lnTo>
                      <a:pt x="4813" y="0"/>
                    </a:lnTo>
                    <a:lnTo>
                      <a:pt x="4883" y="35"/>
                    </a:lnTo>
                    <a:lnTo>
                      <a:pt x="4998" y="35"/>
                    </a:lnTo>
                    <a:lnTo>
                      <a:pt x="5073" y="74"/>
                    </a:lnTo>
                    <a:lnTo>
                      <a:pt x="5143" y="110"/>
                    </a:lnTo>
                    <a:lnTo>
                      <a:pt x="5218" y="149"/>
                    </a:lnTo>
                    <a:lnTo>
                      <a:pt x="5315" y="167"/>
                    </a:lnTo>
                    <a:lnTo>
                      <a:pt x="5276" y="242"/>
                    </a:lnTo>
                    <a:lnTo>
                      <a:pt x="5218" y="299"/>
                    </a:lnTo>
                    <a:lnTo>
                      <a:pt x="5130" y="317"/>
                    </a:lnTo>
                    <a:lnTo>
                      <a:pt x="5051" y="352"/>
                    </a:lnTo>
                    <a:lnTo>
                      <a:pt x="4958" y="339"/>
                    </a:lnTo>
                    <a:lnTo>
                      <a:pt x="4865" y="352"/>
                    </a:lnTo>
                    <a:lnTo>
                      <a:pt x="4751" y="352"/>
                    </a:lnTo>
                    <a:lnTo>
                      <a:pt x="4676" y="392"/>
                    </a:lnTo>
                    <a:lnTo>
                      <a:pt x="4618" y="449"/>
                    </a:lnTo>
                    <a:lnTo>
                      <a:pt x="4566" y="502"/>
                    </a:lnTo>
                    <a:lnTo>
                      <a:pt x="4491" y="542"/>
                    </a:lnTo>
                    <a:lnTo>
                      <a:pt x="4416" y="583"/>
                    </a:lnTo>
                    <a:lnTo>
                      <a:pt x="4363" y="636"/>
                    </a:lnTo>
                    <a:lnTo>
                      <a:pt x="4305" y="693"/>
                    </a:lnTo>
                    <a:lnTo>
                      <a:pt x="4248" y="750"/>
                    </a:lnTo>
                    <a:lnTo>
                      <a:pt x="4191" y="807"/>
                    </a:lnTo>
                    <a:lnTo>
                      <a:pt x="4138" y="860"/>
                    </a:lnTo>
                    <a:lnTo>
                      <a:pt x="4080" y="918"/>
                    </a:lnTo>
                    <a:lnTo>
                      <a:pt x="4023" y="975"/>
                    </a:lnTo>
                    <a:lnTo>
                      <a:pt x="3965" y="1032"/>
                    </a:lnTo>
                    <a:lnTo>
                      <a:pt x="3912" y="1085"/>
                    </a:lnTo>
                    <a:lnTo>
                      <a:pt x="3855" y="1143"/>
                    </a:lnTo>
                    <a:lnTo>
                      <a:pt x="3797" y="1200"/>
                    </a:lnTo>
                    <a:lnTo>
                      <a:pt x="3727" y="1235"/>
                    </a:lnTo>
                    <a:lnTo>
                      <a:pt x="3669" y="1293"/>
                    </a:lnTo>
                    <a:lnTo>
                      <a:pt x="3612" y="1350"/>
                    </a:lnTo>
                    <a:lnTo>
                      <a:pt x="3533" y="1385"/>
                    </a:lnTo>
                    <a:lnTo>
                      <a:pt x="3444" y="1403"/>
                    </a:lnTo>
                    <a:lnTo>
                      <a:pt x="3370" y="1442"/>
                    </a:lnTo>
                    <a:lnTo>
                      <a:pt x="3290" y="1478"/>
                    </a:lnTo>
                    <a:lnTo>
                      <a:pt x="3180" y="1482"/>
                    </a:lnTo>
                    <a:lnTo>
                      <a:pt x="3087" y="1495"/>
                    </a:lnTo>
                    <a:lnTo>
                      <a:pt x="2973" y="1495"/>
                    </a:lnTo>
                    <a:lnTo>
                      <a:pt x="2880" y="1517"/>
                    </a:lnTo>
                    <a:lnTo>
                      <a:pt x="2787" y="1531"/>
                    </a:lnTo>
                    <a:lnTo>
                      <a:pt x="2695" y="1517"/>
                    </a:lnTo>
                    <a:lnTo>
                      <a:pt x="2598" y="1535"/>
                    </a:lnTo>
                    <a:lnTo>
                      <a:pt x="2510" y="1553"/>
                    </a:lnTo>
                    <a:lnTo>
                      <a:pt x="2395" y="1553"/>
                    </a:lnTo>
                    <a:lnTo>
                      <a:pt x="2298" y="1570"/>
                    </a:lnTo>
                    <a:lnTo>
                      <a:pt x="2223" y="1610"/>
                    </a:lnTo>
                    <a:lnTo>
                      <a:pt x="2135" y="1628"/>
                    </a:lnTo>
                    <a:lnTo>
                      <a:pt x="2060" y="1668"/>
                    </a:lnTo>
                    <a:lnTo>
                      <a:pt x="1963" y="1686"/>
                    </a:lnTo>
                    <a:lnTo>
                      <a:pt x="1892" y="1721"/>
                    </a:lnTo>
                    <a:lnTo>
                      <a:pt x="1835" y="1779"/>
                    </a:lnTo>
                    <a:lnTo>
                      <a:pt x="1760" y="1818"/>
                    </a:lnTo>
                    <a:lnTo>
                      <a:pt x="1703" y="1876"/>
                    </a:lnTo>
                    <a:lnTo>
                      <a:pt x="1650" y="1929"/>
                    </a:lnTo>
                    <a:lnTo>
                      <a:pt x="1570" y="1964"/>
                    </a:lnTo>
                    <a:lnTo>
                      <a:pt x="1513" y="2021"/>
                    </a:lnTo>
                    <a:lnTo>
                      <a:pt x="1438" y="2061"/>
                    </a:lnTo>
                    <a:lnTo>
                      <a:pt x="1368" y="2096"/>
                    </a:lnTo>
                    <a:lnTo>
                      <a:pt x="1309" y="2153"/>
                    </a:lnTo>
                    <a:lnTo>
                      <a:pt x="1234" y="2193"/>
                    </a:lnTo>
                    <a:lnTo>
                      <a:pt x="0" y="843"/>
                    </a:lnTo>
                    <a:close/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189240" y="4397400"/>
                <a:ext cx="1190880" cy="1553040"/>
              </a:xfrm>
              <a:custGeom>
                <a:avLst/>
                <a:gdLst/>
                <a:ahLst/>
                <a:rect l="0" t="0" r="r" b="b"/>
                <a:pathLst>
                  <a:path w="3308" h="4314">
                    <a:moveTo>
                      <a:pt x="3308" y="79"/>
                    </a:moveTo>
                    <a:lnTo>
                      <a:pt x="3259" y="163"/>
                    </a:lnTo>
                    <a:lnTo>
                      <a:pt x="3228" y="238"/>
                    </a:lnTo>
                    <a:lnTo>
                      <a:pt x="3228" y="317"/>
                    </a:lnTo>
                    <a:lnTo>
                      <a:pt x="3224" y="401"/>
                    </a:lnTo>
                    <a:lnTo>
                      <a:pt x="3202" y="485"/>
                    </a:lnTo>
                    <a:lnTo>
                      <a:pt x="3176" y="555"/>
                    </a:lnTo>
                    <a:lnTo>
                      <a:pt x="3176" y="635"/>
                    </a:lnTo>
                    <a:lnTo>
                      <a:pt x="3118" y="718"/>
                    </a:lnTo>
                    <a:lnTo>
                      <a:pt x="3096" y="802"/>
                    </a:lnTo>
                    <a:lnTo>
                      <a:pt x="3070" y="873"/>
                    </a:lnTo>
                    <a:lnTo>
                      <a:pt x="3048" y="956"/>
                    </a:lnTo>
                    <a:lnTo>
                      <a:pt x="2986" y="1036"/>
                    </a:lnTo>
                    <a:lnTo>
                      <a:pt x="2937" y="1112"/>
                    </a:lnTo>
                    <a:lnTo>
                      <a:pt x="2858" y="1165"/>
                    </a:lnTo>
                    <a:lnTo>
                      <a:pt x="2809" y="1248"/>
                    </a:lnTo>
                    <a:lnTo>
                      <a:pt x="2752" y="1323"/>
                    </a:lnTo>
                    <a:lnTo>
                      <a:pt x="2704" y="1407"/>
                    </a:lnTo>
                    <a:lnTo>
                      <a:pt x="2620" y="1429"/>
                    </a:lnTo>
                    <a:lnTo>
                      <a:pt x="2541" y="1465"/>
                    </a:lnTo>
                    <a:lnTo>
                      <a:pt x="2457" y="1487"/>
                    </a:lnTo>
                    <a:lnTo>
                      <a:pt x="2386" y="1513"/>
                    </a:lnTo>
                    <a:lnTo>
                      <a:pt x="2302" y="1535"/>
                    </a:lnTo>
                    <a:lnTo>
                      <a:pt x="2223" y="1570"/>
                    </a:lnTo>
                    <a:lnTo>
                      <a:pt x="2139" y="1592"/>
                    </a:lnTo>
                    <a:lnTo>
                      <a:pt x="2069" y="1619"/>
                    </a:lnTo>
                    <a:lnTo>
                      <a:pt x="1985" y="1641"/>
                    </a:lnTo>
                    <a:lnTo>
                      <a:pt x="1906" y="1641"/>
                    </a:lnTo>
                    <a:lnTo>
                      <a:pt x="1831" y="1698"/>
                    </a:lnTo>
                    <a:lnTo>
                      <a:pt x="1747" y="1747"/>
                    </a:lnTo>
                    <a:lnTo>
                      <a:pt x="1667" y="1826"/>
                    </a:lnTo>
                    <a:lnTo>
                      <a:pt x="1587" y="1853"/>
                    </a:lnTo>
                    <a:lnTo>
                      <a:pt x="1512" y="1936"/>
                    </a:lnTo>
                    <a:lnTo>
                      <a:pt x="1428" y="1985"/>
                    </a:lnTo>
                    <a:lnTo>
                      <a:pt x="1375" y="2064"/>
                    </a:lnTo>
                    <a:lnTo>
                      <a:pt x="1300" y="2122"/>
                    </a:lnTo>
                    <a:lnTo>
                      <a:pt x="1243" y="2197"/>
                    </a:lnTo>
                    <a:lnTo>
                      <a:pt x="1168" y="2254"/>
                    </a:lnTo>
                    <a:lnTo>
                      <a:pt x="1089" y="2333"/>
                    </a:lnTo>
                    <a:lnTo>
                      <a:pt x="1031" y="2408"/>
                    </a:lnTo>
                    <a:lnTo>
                      <a:pt x="1005" y="2488"/>
                    </a:lnTo>
                    <a:lnTo>
                      <a:pt x="956" y="2571"/>
                    </a:lnTo>
                    <a:lnTo>
                      <a:pt x="926" y="2646"/>
                    </a:lnTo>
                    <a:lnTo>
                      <a:pt x="873" y="2726"/>
                    </a:lnTo>
                    <a:lnTo>
                      <a:pt x="877" y="2809"/>
                    </a:lnTo>
                    <a:lnTo>
                      <a:pt x="877" y="2889"/>
                    </a:lnTo>
                    <a:lnTo>
                      <a:pt x="877" y="2995"/>
                    </a:lnTo>
                    <a:lnTo>
                      <a:pt x="873" y="3070"/>
                    </a:lnTo>
                    <a:lnTo>
                      <a:pt x="873" y="3149"/>
                    </a:lnTo>
                    <a:lnTo>
                      <a:pt x="877" y="3233"/>
                    </a:lnTo>
                    <a:lnTo>
                      <a:pt x="851" y="3313"/>
                    </a:lnTo>
                    <a:lnTo>
                      <a:pt x="820" y="3388"/>
                    </a:lnTo>
                    <a:lnTo>
                      <a:pt x="793" y="3468"/>
                    </a:lnTo>
                    <a:lnTo>
                      <a:pt x="771" y="3551"/>
                    </a:lnTo>
                    <a:lnTo>
                      <a:pt x="740" y="3626"/>
                    </a:lnTo>
                    <a:lnTo>
                      <a:pt x="745" y="3710"/>
                    </a:lnTo>
                    <a:lnTo>
                      <a:pt x="714" y="3785"/>
                    </a:lnTo>
                    <a:lnTo>
                      <a:pt x="665" y="3869"/>
                    </a:lnTo>
                    <a:lnTo>
                      <a:pt x="608" y="3944"/>
                    </a:lnTo>
                    <a:lnTo>
                      <a:pt x="533" y="4001"/>
                    </a:lnTo>
                    <a:lnTo>
                      <a:pt x="498" y="4080"/>
                    </a:lnTo>
                    <a:lnTo>
                      <a:pt x="427" y="4107"/>
                    </a:lnTo>
                    <a:lnTo>
                      <a:pt x="348" y="4186"/>
                    </a:lnTo>
                    <a:lnTo>
                      <a:pt x="264" y="4208"/>
                    </a:lnTo>
                    <a:lnTo>
                      <a:pt x="189" y="4239"/>
                    </a:lnTo>
                    <a:lnTo>
                      <a:pt x="105" y="4261"/>
                    </a:lnTo>
                    <a:lnTo>
                      <a:pt x="26" y="4314"/>
                    </a:lnTo>
                    <a:lnTo>
                      <a:pt x="0" y="4235"/>
                    </a:lnTo>
                    <a:lnTo>
                      <a:pt x="0" y="4155"/>
                    </a:lnTo>
                    <a:lnTo>
                      <a:pt x="48" y="4080"/>
                    </a:lnTo>
                    <a:lnTo>
                      <a:pt x="83" y="4001"/>
                    </a:lnTo>
                    <a:lnTo>
                      <a:pt x="158" y="3944"/>
                    </a:lnTo>
                    <a:lnTo>
                      <a:pt x="216" y="3869"/>
                    </a:lnTo>
                    <a:lnTo>
                      <a:pt x="295" y="3789"/>
                    </a:lnTo>
                    <a:lnTo>
                      <a:pt x="317" y="3706"/>
                    </a:lnTo>
                    <a:lnTo>
                      <a:pt x="317" y="3626"/>
                    </a:lnTo>
                    <a:lnTo>
                      <a:pt x="321" y="3551"/>
                    </a:lnTo>
                    <a:lnTo>
                      <a:pt x="343" y="3468"/>
                    </a:lnTo>
                    <a:lnTo>
                      <a:pt x="370" y="3388"/>
                    </a:lnTo>
                    <a:lnTo>
                      <a:pt x="370" y="3318"/>
                    </a:lnTo>
                    <a:lnTo>
                      <a:pt x="370" y="3228"/>
                    </a:lnTo>
                    <a:lnTo>
                      <a:pt x="370" y="3149"/>
                    </a:lnTo>
                    <a:lnTo>
                      <a:pt x="370" y="3070"/>
                    </a:lnTo>
                    <a:lnTo>
                      <a:pt x="366" y="2995"/>
                    </a:lnTo>
                    <a:lnTo>
                      <a:pt x="370" y="2911"/>
                    </a:lnTo>
                    <a:lnTo>
                      <a:pt x="370" y="2832"/>
                    </a:lnTo>
                    <a:lnTo>
                      <a:pt x="370" y="2752"/>
                    </a:lnTo>
                    <a:lnTo>
                      <a:pt x="366" y="2677"/>
                    </a:lnTo>
                    <a:lnTo>
                      <a:pt x="370" y="2593"/>
                    </a:lnTo>
                    <a:lnTo>
                      <a:pt x="370" y="2514"/>
                    </a:lnTo>
                    <a:lnTo>
                      <a:pt x="392" y="2439"/>
                    </a:lnTo>
                    <a:lnTo>
                      <a:pt x="392" y="2360"/>
                    </a:lnTo>
                    <a:lnTo>
                      <a:pt x="396" y="2276"/>
                    </a:lnTo>
                    <a:lnTo>
                      <a:pt x="423" y="2197"/>
                    </a:lnTo>
                    <a:lnTo>
                      <a:pt x="476" y="2126"/>
                    </a:lnTo>
                    <a:lnTo>
                      <a:pt x="498" y="2042"/>
                    </a:lnTo>
                    <a:lnTo>
                      <a:pt x="529" y="1958"/>
                    </a:lnTo>
                    <a:lnTo>
                      <a:pt x="608" y="1879"/>
                    </a:lnTo>
                    <a:lnTo>
                      <a:pt x="665" y="1804"/>
                    </a:lnTo>
                    <a:lnTo>
                      <a:pt x="745" y="1725"/>
                    </a:lnTo>
                    <a:lnTo>
                      <a:pt x="793" y="1641"/>
                    </a:lnTo>
                    <a:lnTo>
                      <a:pt x="851" y="1566"/>
                    </a:lnTo>
                    <a:lnTo>
                      <a:pt x="926" y="1509"/>
                    </a:lnTo>
                    <a:lnTo>
                      <a:pt x="978" y="1429"/>
                    </a:lnTo>
                    <a:lnTo>
                      <a:pt x="1027" y="1354"/>
                    </a:lnTo>
                    <a:lnTo>
                      <a:pt x="1111" y="1271"/>
                    </a:lnTo>
                    <a:lnTo>
                      <a:pt x="1168" y="1196"/>
                    </a:lnTo>
                    <a:lnTo>
                      <a:pt x="1190" y="1112"/>
                    </a:lnTo>
                    <a:lnTo>
                      <a:pt x="1239" y="1036"/>
                    </a:lnTo>
                    <a:lnTo>
                      <a:pt x="1265" y="956"/>
                    </a:lnTo>
                    <a:lnTo>
                      <a:pt x="1322" y="873"/>
                    </a:lnTo>
                    <a:lnTo>
                      <a:pt x="1349" y="802"/>
                    </a:lnTo>
                    <a:lnTo>
                      <a:pt x="1349" y="714"/>
                    </a:lnTo>
                    <a:lnTo>
                      <a:pt x="1375" y="635"/>
                    </a:lnTo>
                    <a:lnTo>
                      <a:pt x="1375" y="555"/>
                    </a:lnTo>
                    <a:lnTo>
                      <a:pt x="1371" y="480"/>
                    </a:lnTo>
                    <a:lnTo>
                      <a:pt x="1406" y="401"/>
                    </a:lnTo>
                    <a:lnTo>
                      <a:pt x="1406" y="321"/>
                    </a:lnTo>
                    <a:lnTo>
                      <a:pt x="1428" y="238"/>
                    </a:lnTo>
                    <a:lnTo>
                      <a:pt x="1450" y="163"/>
                    </a:lnTo>
                    <a:lnTo>
                      <a:pt x="1455" y="79"/>
                    </a:lnTo>
                    <a:lnTo>
                      <a:pt x="1481" y="0"/>
                    </a:lnTo>
                    <a:lnTo>
                      <a:pt x="3308" y="79"/>
                    </a:lnTo>
                    <a:close/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562640" y="4148280"/>
                <a:ext cx="789480" cy="1913400"/>
              </a:xfrm>
              <a:custGeom>
                <a:avLst/>
                <a:gdLst/>
                <a:ahLst/>
                <a:rect l="0" t="0" r="r" b="b"/>
                <a:pathLst>
                  <a:path w="2193" h="5315">
                    <a:moveTo>
                      <a:pt x="1350" y="0"/>
                    </a:moveTo>
                    <a:lnTo>
                      <a:pt x="1372" y="92"/>
                    </a:lnTo>
                    <a:lnTo>
                      <a:pt x="1403" y="167"/>
                    </a:lnTo>
                    <a:lnTo>
                      <a:pt x="1460" y="224"/>
                    </a:lnTo>
                    <a:lnTo>
                      <a:pt x="1522" y="286"/>
                    </a:lnTo>
                    <a:lnTo>
                      <a:pt x="1562" y="361"/>
                    </a:lnTo>
                    <a:lnTo>
                      <a:pt x="1592" y="427"/>
                    </a:lnTo>
                    <a:lnTo>
                      <a:pt x="1651" y="485"/>
                    </a:lnTo>
                    <a:lnTo>
                      <a:pt x="1668" y="582"/>
                    </a:lnTo>
                    <a:lnTo>
                      <a:pt x="1712" y="661"/>
                    </a:lnTo>
                    <a:lnTo>
                      <a:pt x="1743" y="727"/>
                    </a:lnTo>
                    <a:lnTo>
                      <a:pt x="1787" y="806"/>
                    </a:lnTo>
                    <a:lnTo>
                      <a:pt x="1801" y="899"/>
                    </a:lnTo>
                    <a:lnTo>
                      <a:pt x="1818" y="987"/>
                    </a:lnTo>
                    <a:lnTo>
                      <a:pt x="1801" y="1084"/>
                    </a:lnTo>
                    <a:lnTo>
                      <a:pt x="1823" y="1177"/>
                    </a:lnTo>
                    <a:lnTo>
                      <a:pt x="1836" y="1270"/>
                    </a:lnTo>
                    <a:lnTo>
                      <a:pt x="1862" y="1368"/>
                    </a:lnTo>
                    <a:lnTo>
                      <a:pt x="1818" y="1438"/>
                    </a:lnTo>
                    <a:lnTo>
                      <a:pt x="1787" y="1522"/>
                    </a:lnTo>
                    <a:lnTo>
                      <a:pt x="1748" y="1597"/>
                    </a:lnTo>
                    <a:lnTo>
                      <a:pt x="1712" y="1667"/>
                    </a:lnTo>
                    <a:lnTo>
                      <a:pt x="1668" y="1738"/>
                    </a:lnTo>
                    <a:lnTo>
                      <a:pt x="1637" y="1822"/>
                    </a:lnTo>
                    <a:lnTo>
                      <a:pt x="1592" y="1892"/>
                    </a:lnTo>
                    <a:lnTo>
                      <a:pt x="1562" y="1967"/>
                    </a:lnTo>
                    <a:lnTo>
                      <a:pt x="1517" y="2038"/>
                    </a:lnTo>
                    <a:lnTo>
                      <a:pt x="1460" y="2095"/>
                    </a:lnTo>
                    <a:lnTo>
                      <a:pt x="1447" y="2188"/>
                    </a:lnTo>
                    <a:lnTo>
                      <a:pt x="1425" y="2280"/>
                    </a:lnTo>
                    <a:lnTo>
                      <a:pt x="1425" y="2395"/>
                    </a:lnTo>
                    <a:lnTo>
                      <a:pt x="1385" y="2470"/>
                    </a:lnTo>
                    <a:lnTo>
                      <a:pt x="1394" y="2585"/>
                    </a:lnTo>
                    <a:lnTo>
                      <a:pt x="1368" y="2673"/>
                    </a:lnTo>
                    <a:lnTo>
                      <a:pt x="1385" y="2770"/>
                    </a:lnTo>
                    <a:lnTo>
                      <a:pt x="1372" y="2862"/>
                    </a:lnTo>
                    <a:lnTo>
                      <a:pt x="1385" y="2955"/>
                    </a:lnTo>
                    <a:lnTo>
                      <a:pt x="1376" y="3052"/>
                    </a:lnTo>
                    <a:lnTo>
                      <a:pt x="1372" y="3162"/>
                    </a:lnTo>
                    <a:lnTo>
                      <a:pt x="1385" y="3255"/>
                    </a:lnTo>
                    <a:lnTo>
                      <a:pt x="1425" y="3330"/>
                    </a:lnTo>
                    <a:lnTo>
                      <a:pt x="1447" y="3422"/>
                    </a:lnTo>
                    <a:lnTo>
                      <a:pt x="1478" y="3497"/>
                    </a:lnTo>
                    <a:lnTo>
                      <a:pt x="1500" y="3590"/>
                    </a:lnTo>
                    <a:lnTo>
                      <a:pt x="1566" y="3647"/>
                    </a:lnTo>
                    <a:lnTo>
                      <a:pt x="1619" y="3700"/>
                    </a:lnTo>
                    <a:lnTo>
                      <a:pt x="1695" y="3775"/>
                    </a:lnTo>
                    <a:lnTo>
                      <a:pt x="1743" y="3833"/>
                    </a:lnTo>
                    <a:lnTo>
                      <a:pt x="1801" y="3890"/>
                    </a:lnTo>
                    <a:lnTo>
                      <a:pt x="1867" y="3947"/>
                    </a:lnTo>
                    <a:lnTo>
                      <a:pt x="1898" y="4023"/>
                    </a:lnTo>
                    <a:lnTo>
                      <a:pt x="1929" y="4098"/>
                    </a:lnTo>
                    <a:lnTo>
                      <a:pt x="1968" y="4173"/>
                    </a:lnTo>
                    <a:lnTo>
                      <a:pt x="2012" y="4244"/>
                    </a:lnTo>
                    <a:lnTo>
                      <a:pt x="2043" y="4319"/>
                    </a:lnTo>
                    <a:lnTo>
                      <a:pt x="2105" y="4380"/>
                    </a:lnTo>
                    <a:lnTo>
                      <a:pt x="2136" y="4455"/>
                    </a:lnTo>
                    <a:lnTo>
                      <a:pt x="2162" y="4544"/>
                    </a:lnTo>
                    <a:lnTo>
                      <a:pt x="2171" y="4641"/>
                    </a:lnTo>
                    <a:lnTo>
                      <a:pt x="2162" y="4738"/>
                    </a:lnTo>
                    <a:lnTo>
                      <a:pt x="2193" y="4813"/>
                    </a:lnTo>
                    <a:lnTo>
                      <a:pt x="2162" y="4887"/>
                    </a:lnTo>
                    <a:lnTo>
                      <a:pt x="2162" y="4993"/>
                    </a:lnTo>
                    <a:lnTo>
                      <a:pt x="2118" y="5073"/>
                    </a:lnTo>
                    <a:lnTo>
                      <a:pt x="2087" y="5148"/>
                    </a:lnTo>
                    <a:lnTo>
                      <a:pt x="2043" y="5218"/>
                    </a:lnTo>
                    <a:lnTo>
                      <a:pt x="2026" y="5315"/>
                    </a:lnTo>
                    <a:lnTo>
                      <a:pt x="1951" y="5276"/>
                    </a:lnTo>
                    <a:lnTo>
                      <a:pt x="1893" y="5218"/>
                    </a:lnTo>
                    <a:lnTo>
                      <a:pt x="1876" y="5130"/>
                    </a:lnTo>
                    <a:lnTo>
                      <a:pt x="1845" y="5055"/>
                    </a:lnTo>
                    <a:lnTo>
                      <a:pt x="1854" y="4958"/>
                    </a:lnTo>
                    <a:lnTo>
                      <a:pt x="1840" y="4865"/>
                    </a:lnTo>
                    <a:lnTo>
                      <a:pt x="1845" y="4755"/>
                    </a:lnTo>
                    <a:lnTo>
                      <a:pt x="1801" y="4676"/>
                    </a:lnTo>
                    <a:lnTo>
                      <a:pt x="1743" y="4618"/>
                    </a:lnTo>
                    <a:lnTo>
                      <a:pt x="1690" y="4566"/>
                    </a:lnTo>
                    <a:lnTo>
                      <a:pt x="1651" y="4491"/>
                    </a:lnTo>
                    <a:lnTo>
                      <a:pt x="1610" y="4416"/>
                    </a:lnTo>
                    <a:lnTo>
                      <a:pt x="1562" y="4367"/>
                    </a:lnTo>
                    <a:lnTo>
                      <a:pt x="1500" y="4305"/>
                    </a:lnTo>
                    <a:lnTo>
                      <a:pt x="1442" y="4248"/>
                    </a:lnTo>
                    <a:lnTo>
                      <a:pt x="1385" y="4191"/>
                    </a:lnTo>
                    <a:lnTo>
                      <a:pt x="1332" y="4138"/>
                    </a:lnTo>
                    <a:lnTo>
                      <a:pt x="1275" y="4080"/>
                    </a:lnTo>
                    <a:lnTo>
                      <a:pt x="1218" y="4023"/>
                    </a:lnTo>
                    <a:lnTo>
                      <a:pt x="1160" y="3965"/>
                    </a:lnTo>
                    <a:lnTo>
                      <a:pt x="1107" y="3912"/>
                    </a:lnTo>
                    <a:lnTo>
                      <a:pt x="1050" y="3855"/>
                    </a:lnTo>
                    <a:lnTo>
                      <a:pt x="993" y="3797"/>
                    </a:lnTo>
                    <a:lnTo>
                      <a:pt x="957" y="3727"/>
                    </a:lnTo>
                    <a:lnTo>
                      <a:pt x="904" y="3674"/>
                    </a:lnTo>
                    <a:lnTo>
                      <a:pt x="843" y="3612"/>
                    </a:lnTo>
                    <a:lnTo>
                      <a:pt x="807" y="3533"/>
                    </a:lnTo>
                    <a:lnTo>
                      <a:pt x="794" y="3449"/>
                    </a:lnTo>
                    <a:lnTo>
                      <a:pt x="755" y="3374"/>
                    </a:lnTo>
                    <a:lnTo>
                      <a:pt x="715" y="3290"/>
                    </a:lnTo>
                    <a:lnTo>
                      <a:pt x="710" y="3180"/>
                    </a:lnTo>
                    <a:lnTo>
                      <a:pt x="702" y="3083"/>
                    </a:lnTo>
                    <a:lnTo>
                      <a:pt x="702" y="2977"/>
                    </a:lnTo>
                    <a:lnTo>
                      <a:pt x="675" y="2880"/>
                    </a:lnTo>
                    <a:lnTo>
                      <a:pt x="662" y="2787"/>
                    </a:lnTo>
                    <a:lnTo>
                      <a:pt x="675" y="2695"/>
                    </a:lnTo>
                    <a:lnTo>
                      <a:pt x="658" y="2598"/>
                    </a:lnTo>
                    <a:lnTo>
                      <a:pt x="640" y="2510"/>
                    </a:lnTo>
                    <a:lnTo>
                      <a:pt x="640" y="2395"/>
                    </a:lnTo>
                    <a:lnTo>
                      <a:pt x="627" y="2302"/>
                    </a:lnTo>
                    <a:lnTo>
                      <a:pt x="583" y="2223"/>
                    </a:lnTo>
                    <a:lnTo>
                      <a:pt x="565" y="2135"/>
                    </a:lnTo>
                    <a:lnTo>
                      <a:pt x="529" y="2064"/>
                    </a:lnTo>
                    <a:lnTo>
                      <a:pt x="507" y="1963"/>
                    </a:lnTo>
                    <a:lnTo>
                      <a:pt x="476" y="1897"/>
                    </a:lnTo>
                    <a:lnTo>
                      <a:pt x="414" y="1835"/>
                    </a:lnTo>
                    <a:lnTo>
                      <a:pt x="374" y="1760"/>
                    </a:lnTo>
                    <a:lnTo>
                      <a:pt x="317" y="1703"/>
                    </a:lnTo>
                    <a:lnTo>
                      <a:pt x="264" y="1650"/>
                    </a:lnTo>
                    <a:lnTo>
                      <a:pt x="233" y="1575"/>
                    </a:lnTo>
                    <a:lnTo>
                      <a:pt x="176" y="1517"/>
                    </a:lnTo>
                    <a:lnTo>
                      <a:pt x="132" y="1438"/>
                    </a:lnTo>
                    <a:lnTo>
                      <a:pt x="92" y="1372"/>
                    </a:lnTo>
                    <a:lnTo>
                      <a:pt x="39" y="1309"/>
                    </a:lnTo>
                    <a:lnTo>
                      <a:pt x="0" y="1234"/>
                    </a:lnTo>
                    <a:lnTo>
                      <a:pt x="1350" y="0"/>
                    </a:lnTo>
                    <a:close/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446800" y="3587760"/>
                <a:ext cx="1553040" cy="1190880"/>
              </a:xfrm>
              <a:custGeom>
                <a:avLst/>
                <a:gdLst/>
                <a:ahLst/>
                <a:rect l="0" t="0" r="r" b="b"/>
                <a:pathLst>
                  <a:path w="4314" h="3308">
                    <a:moveTo>
                      <a:pt x="79" y="0"/>
                    </a:moveTo>
                    <a:lnTo>
                      <a:pt x="163" y="48"/>
                    </a:lnTo>
                    <a:lnTo>
                      <a:pt x="238" y="79"/>
                    </a:lnTo>
                    <a:lnTo>
                      <a:pt x="317" y="79"/>
                    </a:lnTo>
                    <a:lnTo>
                      <a:pt x="401" y="83"/>
                    </a:lnTo>
                    <a:lnTo>
                      <a:pt x="485" y="105"/>
                    </a:lnTo>
                    <a:lnTo>
                      <a:pt x="555" y="132"/>
                    </a:lnTo>
                    <a:lnTo>
                      <a:pt x="635" y="132"/>
                    </a:lnTo>
                    <a:lnTo>
                      <a:pt x="718" y="189"/>
                    </a:lnTo>
                    <a:lnTo>
                      <a:pt x="802" y="211"/>
                    </a:lnTo>
                    <a:lnTo>
                      <a:pt x="873" y="238"/>
                    </a:lnTo>
                    <a:lnTo>
                      <a:pt x="956" y="260"/>
                    </a:lnTo>
                    <a:lnTo>
                      <a:pt x="1036" y="321"/>
                    </a:lnTo>
                    <a:lnTo>
                      <a:pt x="1112" y="370"/>
                    </a:lnTo>
                    <a:lnTo>
                      <a:pt x="1165" y="449"/>
                    </a:lnTo>
                    <a:lnTo>
                      <a:pt x="1248" y="498"/>
                    </a:lnTo>
                    <a:lnTo>
                      <a:pt x="1323" y="555"/>
                    </a:lnTo>
                    <a:lnTo>
                      <a:pt x="1407" y="604"/>
                    </a:lnTo>
                    <a:lnTo>
                      <a:pt x="1429" y="687"/>
                    </a:lnTo>
                    <a:lnTo>
                      <a:pt x="1465" y="767"/>
                    </a:lnTo>
                    <a:lnTo>
                      <a:pt x="1487" y="851"/>
                    </a:lnTo>
                    <a:lnTo>
                      <a:pt x="1513" y="921"/>
                    </a:lnTo>
                    <a:lnTo>
                      <a:pt x="1535" y="1005"/>
                    </a:lnTo>
                    <a:lnTo>
                      <a:pt x="1570" y="1084"/>
                    </a:lnTo>
                    <a:lnTo>
                      <a:pt x="1592" y="1168"/>
                    </a:lnTo>
                    <a:lnTo>
                      <a:pt x="1619" y="1239"/>
                    </a:lnTo>
                    <a:lnTo>
                      <a:pt x="1641" y="1322"/>
                    </a:lnTo>
                    <a:lnTo>
                      <a:pt x="1641" y="1402"/>
                    </a:lnTo>
                    <a:lnTo>
                      <a:pt x="1698" y="1477"/>
                    </a:lnTo>
                    <a:lnTo>
                      <a:pt x="1747" y="1561"/>
                    </a:lnTo>
                    <a:lnTo>
                      <a:pt x="1826" y="1640"/>
                    </a:lnTo>
                    <a:lnTo>
                      <a:pt x="1853" y="1720"/>
                    </a:lnTo>
                    <a:lnTo>
                      <a:pt x="1936" y="1795"/>
                    </a:lnTo>
                    <a:lnTo>
                      <a:pt x="1985" y="1879"/>
                    </a:lnTo>
                    <a:lnTo>
                      <a:pt x="2064" y="1932"/>
                    </a:lnTo>
                    <a:lnTo>
                      <a:pt x="2122" y="2007"/>
                    </a:lnTo>
                    <a:lnTo>
                      <a:pt x="2197" y="2064"/>
                    </a:lnTo>
                    <a:lnTo>
                      <a:pt x="2254" y="2139"/>
                    </a:lnTo>
                    <a:lnTo>
                      <a:pt x="2333" y="2219"/>
                    </a:lnTo>
                    <a:lnTo>
                      <a:pt x="2408" y="2276"/>
                    </a:lnTo>
                    <a:lnTo>
                      <a:pt x="2488" y="2302"/>
                    </a:lnTo>
                    <a:lnTo>
                      <a:pt x="2571" y="2351"/>
                    </a:lnTo>
                    <a:lnTo>
                      <a:pt x="2646" y="2382"/>
                    </a:lnTo>
                    <a:lnTo>
                      <a:pt x="2726" y="2435"/>
                    </a:lnTo>
                    <a:lnTo>
                      <a:pt x="2809" y="2430"/>
                    </a:lnTo>
                    <a:lnTo>
                      <a:pt x="2889" y="2430"/>
                    </a:lnTo>
                    <a:lnTo>
                      <a:pt x="2995" y="2430"/>
                    </a:lnTo>
                    <a:lnTo>
                      <a:pt x="3070" y="2435"/>
                    </a:lnTo>
                    <a:lnTo>
                      <a:pt x="3149" y="2435"/>
                    </a:lnTo>
                    <a:lnTo>
                      <a:pt x="3233" y="2430"/>
                    </a:lnTo>
                    <a:lnTo>
                      <a:pt x="3313" y="2457"/>
                    </a:lnTo>
                    <a:lnTo>
                      <a:pt x="3388" y="2488"/>
                    </a:lnTo>
                    <a:lnTo>
                      <a:pt x="3468" y="2514"/>
                    </a:lnTo>
                    <a:lnTo>
                      <a:pt x="3551" y="2536"/>
                    </a:lnTo>
                    <a:lnTo>
                      <a:pt x="3626" y="2567"/>
                    </a:lnTo>
                    <a:lnTo>
                      <a:pt x="3710" y="2563"/>
                    </a:lnTo>
                    <a:lnTo>
                      <a:pt x="3785" y="2593"/>
                    </a:lnTo>
                    <a:lnTo>
                      <a:pt x="3869" y="2642"/>
                    </a:lnTo>
                    <a:lnTo>
                      <a:pt x="3944" y="2699"/>
                    </a:lnTo>
                    <a:lnTo>
                      <a:pt x="4001" y="2774"/>
                    </a:lnTo>
                    <a:lnTo>
                      <a:pt x="4080" y="2809"/>
                    </a:lnTo>
                    <a:lnTo>
                      <a:pt x="4107" y="2880"/>
                    </a:lnTo>
                    <a:lnTo>
                      <a:pt x="4186" y="2959"/>
                    </a:lnTo>
                    <a:lnTo>
                      <a:pt x="4208" y="3043"/>
                    </a:lnTo>
                    <a:lnTo>
                      <a:pt x="4239" y="3118"/>
                    </a:lnTo>
                    <a:lnTo>
                      <a:pt x="4261" y="3202"/>
                    </a:lnTo>
                    <a:lnTo>
                      <a:pt x="4314" y="3281"/>
                    </a:lnTo>
                    <a:lnTo>
                      <a:pt x="4235" y="3308"/>
                    </a:lnTo>
                    <a:lnTo>
                      <a:pt x="4155" y="3308"/>
                    </a:lnTo>
                    <a:lnTo>
                      <a:pt x="4080" y="3259"/>
                    </a:lnTo>
                    <a:lnTo>
                      <a:pt x="4001" y="3224"/>
                    </a:lnTo>
                    <a:lnTo>
                      <a:pt x="3944" y="3149"/>
                    </a:lnTo>
                    <a:lnTo>
                      <a:pt x="3869" y="3092"/>
                    </a:lnTo>
                    <a:lnTo>
                      <a:pt x="3789" y="3012"/>
                    </a:lnTo>
                    <a:lnTo>
                      <a:pt x="3706" y="2990"/>
                    </a:lnTo>
                    <a:lnTo>
                      <a:pt x="3626" y="2990"/>
                    </a:lnTo>
                    <a:lnTo>
                      <a:pt x="3551" y="2986"/>
                    </a:lnTo>
                    <a:lnTo>
                      <a:pt x="3468" y="2964"/>
                    </a:lnTo>
                    <a:lnTo>
                      <a:pt x="3388" y="2937"/>
                    </a:lnTo>
                    <a:lnTo>
                      <a:pt x="3318" y="2937"/>
                    </a:lnTo>
                    <a:lnTo>
                      <a:pt x="3228" y="2937"/>
                    </a:lnTo>
                    <a:lnTo>
                      <a:pt x="3149" y="2937"/>
                    </a:lnTo>
                    <a:lnTo>
                      <a:pt x="3070" y="2937"/>
                    </a:lnTo>
                    <a:lnTo>
                      <a:pt x="2995" y="2942"/>
                    </a:lnTo>
                    <a:lnTo>
                      <a:pt x="2911" y="2937"/>
                    </a:lnTo>
                    <a:lnTo>
                      <a:pt x="2832" y="2937"/>
                    </a:lnTo>
                    <a:lnTo>
                      <a:pt x="2752" y="2937"/>
                    </a:lnTo>
                    <a:lnTo>
                      <a:pt x="2677" y="2942"/>
                    </a:lnTo>
                    <a:lnTo>
                      <a:pt x="2593" y="2937"/>
                    </a:lnTo>
                    <a:lnTo>
                      <a:pt x="2514" y="2937"/>
                    </a:lnTo>
                    <a:lnTo>
                      <a:pt x="2439" y="2915"/>
                    </a:lnTo>
                    <a:lnTo>
                      <a:pt x="2360" y="2915"/>
                    </a:lnTo>
                    <a:lnTo>
                      <a:pt x="2276" y="2911"/>
                    </a:lnTo>
                    <a:lnTo>
                      <a:pt x="2197" y="2884"/>
                    </a:lnTo>
                    <a:lnTo>
                      <a:pt x="2126" y="2832"/>
                    </a:lnTo>
                    <a:lnTo>
                      <a:pt x="2042" y="2809"/>
                    </a:lnTo>
                    <a:lnTo>
                      <a:pt x="1958" y="2779"/>
                    </a:lnTo>
                    <a:lnTo>
                      <a:pt x="1879" y="2699"/>
                    </a:lnTo>
                    <a:lnTo>
                      <a:pt x="1804" y="2642"/>
                    </a:lnTo>
                    <a:lnTo>
                      <a:pt x="1725" y="2563"/>
                    </a:lnTo>
                    <a:lnTo>
                      <a:pt x="1641" y="2514"/>
                    </a:lnTo>
                    <a:lnTo>
                      <a:pt x="1566" y="2457"/>
                    </a:lnTo>
                    <a:lnTo>
                      <a:pt x="1509" y="2382"/>
                    </a:lnTo>
                    <a:lnTo>
                      <a:pt x="1429" y="2329"/>
                    </a:lnTo>
                    <a:lnTo>
                      <a:pt x="1354" y="2280"/>
                    </a:lnTo>
                    <a:lnTo>
                      <a:pt x="1271" y="2197"/>
                    </a:lnTo>
                    <a:lnTo>
                      <a:pt x="1196" y="2139"/>
                    </a:lnTo>
                    <a:lnTo>
                      <a:pt x="1112" y="2117"/>
                    </a:lnTo>
                    <a:lnTo>
                      <a:pt x="1036" y="2069"/>
                    </a:lnTo>
                    <a:lnTo>
                      <a:pt x="956" y="2042"/>
                    </a:lnTo>
                    <a:lnTo>
                      <a:pt x="873" y="1985"/>
                    </a:lnTo>
                    <a:lnTo>
                      <a:pt x="802" y="1958"/>
                    </a:lnTo>
                    <a:lnTo>
                      <a:pt x="714" y="1958"/>
                    </a:lnTo>
                    <a:lnTo>
                      <a:pt x="635" y="1932"/>
                    </a:lnTo>
                    <a:lnTo>
                      <a:pt x="555" y="1932"/>
                    </a:lnTo>
                    <a:lnTo>
                      <a:pt x="480" y="1936"/>
                    </a:lnTo>
                    <a:lnTo>
                      <a:pt x="401" y="1901"/>
                    </a:lnTo>
                    <a:lnTo>
                      <a:pt x="321" y="1901"/>
                    </a:lnTo>
                    <a:lnTo>
                      <a:pt x="238" y="1879"/>
                    </a:lnTo>
                    <a:lnTo>
                      <a:pt x="163" y="1857"/>
                    </a:lnTo>
                    <a:lnTo>
                      <a:pt x="79" y="1853"/>
                    </a:lnTo>
                    <a:lnTo>
                      <a:pt x="0" y="1826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830240" y="3589200"/>
                <a:ext cx="1913400" cy="789480"/>
              </a:xfrm>
              <a:custGeom>
                <a:avLst/>
                <a:gdLst/>
                <a:ahLst/>
                <a:rect l="0" t="0" r="r" b="b"/>
                <a:pathLst>
                  <a:path w="5315" h="2193">
                    <a:moveTo>
                      <a:pt x="5315" y="1350"/>
                    </a:moveTo>
                    <a:lnTo>
                      <a:pt x="5223" y="1372"/>
                    </a:lnTo>
                    <a:lnTo>
                      <a:pt x="5148" y="1403"/>
                    </a:lnTo>
                    <a:lnTo>
                      <a:pt x="5090" y="1460"/>
                    </a:lnTo>
                    <a:lnTo>
                      <a:pt x="5029" y="1522"/>
                    </a:lnTo>
                    <a:lnTo>
                      <a:pt x="4954" y="1562"/>
                    </a:lnTo>
                    <a:lnTo>
                      <a:pt x="4887" y="1592"/>
                    </a:lnTo>
                    <a:lnTo>
                      <a:pt x="4830" y="1651"/>
                    </a:lnTo>
                    <a:lnTo>
                      <a:pt x="4733" y="1668"/>
                    </a:lnTo>
                    <a:lnTo>
                      <a:pt x="4654" y="1712"/>
                    </a:lnTo>
                    <a:lnTo>
                      <a:pt x="4588" y="1743"/>
                    </a:lnTo>
                    <a:lnTo>
                      <a:pt x="4508" y="1787"/>
                    </a:lnTo>
                    <a:lnTo>
                      <a:pt x="4416" y="1801"/>
                    </a:lnTo>
                    <a:lnTo>
                      <a:pt x="4327" y="1818"/>
                    </a:lnTo>
                    <a:lnTo>
                      <a:pt x="4230" y="1801"/>
                    </a:lnTo>
                    <a:lnTo>
                      <a:pt x="4138" y="1823"/>
                    </a:lnTo>
                    <a:lnTo>
                      <a:pt x="4045" y="1836"/>
                    </a:lnTo>
                    <a:lnTo>
                      <a:pt x="3947" y="1862"/>
                    </a:lnTo>
                    <a:lnTo>
                      <a:pt x="3877" y="1818"/>
                    </a:lnTo>
                    <a:lnTo>
                      <a:pt x="3793" y="1787"/>
                    </a:lnTo>
                    <a:lnTo>
                      <a:pt x="3718" y="1748"/>
                    </a:lnTo>
                    <a:lnTo>
                      <a:pt x="3647" y="1712"/>
                    </a:lnTo>
                    <a:lnTo>
                      <a:pt x="3577" y="1668"/>
                    </a:lnTo>
                    <a:lnTo>
                      <a:pt x="3493" y="1637"/>
                    </a:lnTo>
                    <a:lnTo>
                      <a:pt x="3422" y="1592"/>
                    </a:lnTo>
                    <a:lnTo>
                      <a:pt x="3347" y="1562"/>
                    </a:lnTo>
                    <a:lnTo>
                      <a:pt x="3277" y="1517"/>
                    </a:lnTo>
                    <a:lnTo>
                      <a:pt x="3220" y="1460"/>
                    </a:lnTo>
                    <a:lnTo>
                      <a:pt x="3127" y="1447"/>
                    </a:lnTo>
                    <a:lnTo>
                      <a:pt x="3034" y="1425"/>
                    </a:lnTo>
                    <a:lnTo>
                      <a:pt x="2920" y="1425"/>
                    </a:lnTo>
                    <a:lnTo>
                      <a:pt x="2845" y="1385"/>
                    </a:lnTo>
                    <a:lnTo>
                      <a:pt x="2730" y="1394"/>
                    </a:lnTo>
                    <a:lnTo>
                      <a:pt x="2642" y="1368"/>
                    </a:lnTo>
                    <a:lnTo>
                      <a:pt x="2545" y="1385"/>
                    </a:lnTo>
                    <a:lnTo>
                      <a:pt x="2452" y="1372"/>
                    </a:lnTo>
                    <a:lnTo>
                      <a:pt x="2360" y="1385"/>
                    </a:lnTo>
                    <a:lnTo>
                      <a:pt x="2263" y="1376"/>
                    </a:lnTo>
                    <a:lnTo>
                      <a:pt x="2152" y="1372"/>
                    </a:lnTo>
                    <a:lnTo>
                      <a:pt x="2060" y="1385"/>
                    </a:lnTo>
                    <a:lnTo>
                      <a:pt x="1985" y="1425"/>
                    </a:lnTo>
                    <a:lnTo>
                      <a:pt x="1892" y="1447"/>
                    </a:lnTo>
                    <a:lnTo>
                      <a:pt x="1817" y="1478"/>
                    </a:lnTo>
                    <a:lnTo>
                      <a:pt x="1725" y="1500"/>
                    </a:lnTo>
                    <a:lnTo>
                      <a:pt x="1667" y="1566"/>
                    </a:lnTo>
                    <a:lnTo>
                      <a:pt x="1614" y="1619"/>
                    </a:lnTo>
                    <a:lnTo>
                      <a:pt x="1539" y="1695"/>
                    </a:lnTo>
                    <a:lnTo>
                      <a:pt x="1482" y="1743"/>
                    </a:lnTo>
                    <a:lnTo>
                      <a:pt x="1425" y="1801"/>
                    </a:lnTo>
                    <a:lnTo>
                      <a:pt x="1368" y="1867"/>
                    </a:lnTo>
                    <a:lnTo>
                      <a:pt x="1292" y="1898"/>
                    </a:lnTo>
                    <a:lnTo>
                      <a:pt x="1217" y="1929"/>
                    </a:lnTo>
                    <a:lnTo>
                      <a:pt x="1142" y="1968"/>
                    </a:lnTo>
                    <a:lnTo>
                      <a:pt x="1071" y="2012"/>
                    </a:lnTo>
                    <a:lnTo>
                      <a:pt x="996" y="2043"/>
                    </a:lnTo>
                    <a:lnTo>
                      <a:pt x="934" y="2105"/>
                    </a:lnTo>
                    <a:lnTo>
                      <a:pt x="859" y="2136"/>
                    </a:lnTo>
                    <a:lnTo>
                      <a:pt x="771" y="2162"/>
                    </a:lnTo>
                    <a:lnTo>
                      <a:pt x="674" y="2171"/>
                    </a:lnTo>
                    <a:lnTo>
                      <a:pt x="577" y="2162"/>
                    </a:lnTo>
                    <a:lnTo>
                      <a:pt x="502" y="2193"/>
                    </a:lnTo>
                    <a:lnTo>
                      <a:pt x="427" y="2162"/>
                    </a:lnTo>
                    <a:lnTo>
                      <a:pt x="321" y="2162"/>
                    </a:lnTo>
                    <a:lnTo>
                      <a:pt x="242" y="2118"/>
                    </a:lnTo>
                    <a:lnTo>
                      <a:pt x="167" y="2087"/>
                    </a:lnTo>
                    <a:lnTo>
                      <a:pt x="97" y="2043"/>
                    </a:lnTo>
                    <a:lnTo>
                      <a:pt x="0" y="2026"/>
                    </a:lnTo>
                    <a:lnTo>
                      <a:pt x="39" y="1951"/>
                    </a:lnTo>
                    <a:lnTo>
                      <a:pt x="97" y="1893"/>
                    </a:lnTo>
                    <a:lnTo>
                      <a:pt x="185" y="1876"/>
                    </a:lnTo>
                    <a:lnTo>
                      <a:pt x="260" y="1845"/>
                    </a:lnTo>
                    <a:lnTo>
                      <a:pt x="357" y="1854"/>
                    </a:lnTo>
                    <a:lnTo>
                      <a:pt x="449" y="1840"/>
                    </a:lnTo>
                    <a:lnTo>
                      <a:pt x="560" y="1845"/>
                    </a:lnTo>
                    <a:lnTo>
                      <a:pt x="639" y="1801"/>
                    </a:lnTo>
                    <a:lnTo>
                      <a:pt x="696" y="1743"/>
                    </a:lnTo>
                    <a:lnTo>
                      <a:pt x="749" y="1690"/>
                    </a:lnTo>
                    <a:lnTo>
                      <a:pt x="824" y="1651"/>
                    </a:lnTo>
                    <a:lnTo>
                      <a:pt x="899" y="1610"/>
                    </a:lnTo>
                    <a:lnTo>
                      <a:pt x="948" y="1562"/>
                    </a:lnTo>
                    <a:lnTo>
                      <a:pt x="1009" y="1500"/>
                    </a:lnTo>
                    <a:lnTo>
                      <a:pt x="1067" y="1442"/>
                    </a:lnTo>
                    <a:lnTo>
                      <a:pt x="1124" y="1385"/>
                    </a:lnTo>
                    <a:lnTo>
                      <a:pt x="1177" y="1332"/>
                    </a:lnTo>
                    <a:lnTo>
                      <a:pt x="1234" y="1275"/>
                    </a:lnTo>
                    <a:lnTo>
                      <a:pt x="1292" y="1218"/>
                    </a:lnTo>
                    <a:lnTo>
                      <a:pt x="1350" y="1160"/>
                    </a:lnTo>
                    <a:lnTo>
                      <a:pt x="1403" y="1107"/>
                    </a:lnTo>
                    <a:lnTo>
                      <a:pt x="1460" y="1050"/>
                    </a:lnTo>
                    <a:lnTo>
                      <a:pt x="1517" y="993"/>
                    </a:lnTo>
                    <a:lnTo>
                      <a:pt x="1588" y="957"/>
                    </a:lnTo>
                    <a:lnTo>
                      <a:pt x="1641" y="904"/>
                    </a:lnTo>
                    <a:lnTo>
                      <a:pt x="1703" y="843"/>
                    </a:lnTo>
                    <a:lnTo>
                      <a:pt x="1782" y="807"/>
                    </a:lnTo>
                    <a:lnTo>
                      <a:pt x="1866" y="794"/>
                    </a:lnTo>
                    <a:lnTo>
                      <a:pt x="1941" y="755"/>
                    </a:lnTo>
                    <a:lnTo>
                      <a:pt x="2025" y="715"/>
                    </a:lnTo>
                    <a:lnTo>
                      <a:pt x="2135" y="710"/>
                    </a:lnTo>
                    <a:lnTo>
                      <a:pt x="2232" y="702"/>
                    </a:lnTo>
                    <a:lnTo>
                      <a:pt x="2338" y="702"/>
                    </a:lnTo>
                    <a:lnTo>
                      <a:pt x="2435" y="675"/>
                    </a:lnTo>
                    <a:lnTo>
                      <a:pt x="2527" y="662"/>
                    </a:lnTo>
                    <a:lnTo>
                      <a:pt x="2620" y="675"/>
                    </a:lnTo>
                    <a:lnTo>
                      <a:pt x="2717" y="658"/>
                    </a:lnTo>
                    <a:lnTo>
                      <a:pt x="2805" y="640"/>
                    </a:lnTo>
                    <a:lnTo>
                      <a:pt x="2920" y="640"/>
                    </a:lnTo>
                    <a:lnTo>
                      <a:pt x="3012" y="627"/>
                    </a:lnTo>
                    <a:lnTo>
                      <a:pt x="3092" y="583"/>
                    </a:lnTo>
                    <a:lnTo>
                      <a:pt x="3180" y="565"/>
                    </a:lnTo>
                    <a:lnTo>
                      <a:pt x="3250" y="529"/>
                    </a:lnTo>
                    <a:lnTo>
                      <a:pt x="3352" y="507"/>
                    </a:lnTo>
                    <a:lnTo>
                      <a:pt x="3418" y="476"/>
                    </a:lnTo>
                    <a:lnTo>
                      <a:pt x="3480" y="414"/>
                    </a:lnTo>
                    <a:lnTo>
                      <a:pt x="3555" y="374"/>
                    </a:lnTo>
                    <a:lnTo>
                      <a:pt x="3612" y="317"/>
                    </a:lnTo>
                    <a:lnTo>
                      <a:pt x="3665" y="264"/>
                    </a:lnTo>
                    <a:lnTo>
                      <a:pt x="3740" y="233"/>
                    </a:lnTo>
                    <a:lnTo>
                      <a:pt x="3797" y="176"/>
                    </a:lnTo>
                    <a:lnTo>
                      <a:pt x="3877" y="132"/>
                    </a:lnTo>
                    <a:lnTo>
                      <a:pt x="3943" y="92"/>
                    </a:lnTo>
                    <a:lnTo>
                      <a:pt x="4006" y="39"/>
                    </a:lnTo>
                    <a:lnTo>
                      <a:pt x="4080" y="0"/>
                    </a:lnTo>
                    <a:lnTo>
                      <a:pt x="5315" y="1350"/>
                    </a:lnTo>
                    <a:close/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524400" y="879480"/>
                <a:ext cx="789480" cy="1913400"/>
              </a:xfrm>
              <a:custGeom>
                <a:avLst/>
                <a:gdLst/>
                <a:ahLst/>
                <a:rect l="0" t="0" r="r" b="b"/>
                <a:pathLst>
                  <a:path w="2193" h="5315">
                    <a:moveTo>
                      <a:pt x="843" y="5315"/>
                    </a:moveTo>
                    <a:lnTo>
                      <a:pt x="821" y="5223"/>
                    </a:lnTo>
                    <a:lnTo>
                      <a:pt x="790" y="5148"/>
                    </a:lnTo>
                    <a:lnTo>
                      <a:pt x="733" y="5090"/>
                    </a:lnTo>
                    <a:lnTo>
                      <a:pt x="675" y="5033"/>
                    </a:lnTo>
                    <a:lnTo>
                      <a:pt x="636" y="4958"/>
                    </a:lnTo>
                    <a:lnTo>
                      <a:pt x="600" y="4887"/>
                    </a:lnTo>
                    <a:lnTo>
                      <a:pt x="542" y="4830"/>
                    </a:lnTo>
                    <a:lnTo>
                      <a:pt x="524" y="4733"/>
                    </a:lnTo>
                    <a:lnTo>
                      <a:pt x="485" y="4658"/>
                    </a:lnTo>
                    <a:lnTo>
                      <a:pt x="449" y="4588"/>
                    </a:lnTo>
                    <a:lnTo>
                      <a:pt x="410" y="4513"/>
                    </a:lnTo>
                    <a:lnTo>
                      <a:pt x="392" y="4416"/>
                    </a:lnTo>
                    <a:lnTo>
                      <a:pt x="374" y="4327"/>
                    </a:lnTo>
                    <a:lnTo>
                      <a:pt x="392" y="4230"/>
                    </a:lnTo>
                    <a:lnTo>
                      <a:pt x="370" y="4138"/>
                    </a:lnTo>
                    <a:lnTo>
                      <a:pt x="357" y="4045"/>
                    </a:lnTo>
                    <a:lnTo>
                      <a:pt x="335" y="3952"/>
                    </a:lnTo>
                    <a:lnTo>
                      <a:pt x="374" y="3877"/>
                    </a:lnTo>
                    <a:lnTo>
                      <a:pt x="410" y="3797"/>
                    </a:lnTo>
                    <a:lnTo>
                      <a:pt x="449" y="3722"/>
                    </a:lnTo>
                    <a:lnTo>
                      <a:pt x="485" y="3652"/>
                    </a:lnTo>
                    <a:lnTo>
                      <a:pt x="524" y="3577"/>
                    </a:lnTo>
                    <a:lnTo>
                      <a:pt x="561" y="3497"/>
                    </a:lnTo>
                    <a:lnTo>
                      <a:pt x="600" y="3422"/>
                    </a:lnTo>
                    <a:lnTo>
                      <a:pt x="636" y="3352"/>
                    </a:lnTo>
                    <a:lnTo>
                      <a:pt x="675" y="3277"/>
                    </a:lnTo>
                    <a:lnTo>
                      <a:pt x="733" y="3220"/>
                    </a:lnTo>
                    <a:lnTo>
                      <a:pt x="746" y="3127"/>
                    </a:lnTo>
                    <a:lnTo>
                      <a:pt x="768" y="3034"/>
                    </a:lnTo>
                    <a:lnTo>
                      <a:pt x="768" y="2920"/>
                    </a:lnTo>
                    <a:lnTo>
                      <a:pt x="807" y="2845"/>
                    </a:lnTo>
                    <a:lnTo>
                      <a:pt x="803" y="2735"/>
                    </a:lnTo>
                    <a:lnTo>
                      <a:pt x="825" y="2642"/>
                    </a:lnTo>
                    <a:lnTo>
                      <a:pt x="807" y="2545"/>
                    </a:lnTo>
                    <a:lnTo>
                      <a:pt x="821" y="2452"/>
                    </a:lnTo>
                    <a:lnTo>
                      <a:pt x="807" y="2360"/>
                    </a:lnTo>
                    <a:lnTo>
                      <a:pt x="821" y="2267"/>
                    </a:lnTo>
                    <a:lnTo>
                      <a:pt x="821" y="2152"/>
                    </a:lnTo>
                    <a:lnTo>
                      <a:pt x="807" y="2060"/>
                    </a:lnTo>
                    <a:lnTo>
                      <a:pt x="768" y="1985"/>
                    </a:lnTo>
                    <a:lnTo>
                      <a:pt x="746" y="1892"/>
                    </a:lnTo>
                    <a:lnTo>
                      <a:pt x="715" y="1817"/>
                    </a:lnTo>
                    <a:lnTo>
                      <a:pt x="693" y="1725"/>
                    </a:lnTo>
                    <a:lnTo>
                      <a:pt x="636" y="1667"/>
                    </a:lnTo>
                    <a:lnTo>
                      <a:pt x="578" y="1610"/>
                    </a:lnTo>
                    <a:lnTo>
                      <a:pt x="502" y="1535"/>
                    </a:lnTo>
                    <a:lnTo>
                      <a:pt x="449" y="1482"/>
                    </a:lnTo>
                    <a:lnTo>
                      <a:pt x="392" y="1425"/>
                    </a:lnTo>
                    <a:lnTo>
                      <a:pt x="335" y="1368"/>
                    </a:lnTo>
                    <a:lnTo>
                      <a:pt x="295" y="1292"/>
                    </a:lnTo>
                    <a:lnTo>
                      <a:pt x="264" y="1217"/>
                    </a:lnTo>
                    <a:lnTo>
                      <a:pt x="224" y="1142"/>
                    </a:lnTo>
                    <a:lnTo>
                      <a:pt x="185" y="1067"/>
                    </a:lnTo>
                    <a:lnTo>
                      <a:pt x="149" y="996"/>
                    </a:lnTo>
                    <a:lnTo>
                      <a:pt x="92" y="939"/>
                    </a:lnTo>
                    <a:lnTo>
                      <a:pt x="57" y="859"/>
                    </a:lnTo>
                    <a:lnTo>
                      <a:pt x="35" y="767"/>
                    </a:lnTo>
                    <a:lnTo>
                      <a:pt x="22" y="674"/>
                    </a:lnTo>
                    <a:lnTo>
                      <a:pt x="35" y="582"/>
                    </a:lnTo>
                    <a:lnTo>
                      <a:pt x="0" y="502"/>
                    </a:lnTo>
                    <a:lnTo>
                      <a:pt x="35" y="432"/>
                    </a:lnTo>
                    <a:lnTo>
                      <a:pt x="35" y="317"/>
                    </a:lnTo>
                    <a:lnTo>
                      <a:pt x="74" y="242"/>
                    </a:lnTo>
                    <a:lnTo>
                      <a:pt x="110" y="171"/>
                    </a:lnTo>
                    <a:lnTo>
                      <a:pt x="149" y="97"/>
                    </a:lnTo>
                    <a:lnTo>
                      <a:pt x="167" y="0"/>
                    </a:lnTo>
                    <a:lnTo>
                      <a:pt x="242" y="39"/>
                    </a:lnTo>
                    <a:lnTo>
                      <a:pt x="299" y="97"/>
                    </a:lnTo>
                    <a:lnTo>
                      <a:pt x="317" y="185"/>
                    </a:lnTo>
                    <a:lnTo>
                      <a:pt x="352" y="264"/>
                    </a:lnTo>
                    <a:lnTo>
                      <a:pt x="339" y="357"/>
                    </a:lnTo>
                    <a:lnTo>
                      <a:pt x="352" y="449"/>
                    </a:lnTo>
                    <a:lnTo>
                      <a:pt x="352" y="564"/>
                    </a:lnTo>
                    <a:lnTo>
                      <a:pt x="392" y="639"/>
                    </a:lnTo>
                    <a:lnTo>
                      <a:pt x="449" y="696"/>
                    </a:lnTo>
                    <a:lnTo>
                      <a:pt x="502" y="749"/>
                    </a:lnTo>
                    <a:lnTo>
                      <a:pt x="542" y="824"/>
                    </a:lnTo>
                    <a:lnTo>
                      <a:pt x="583" y="899"/>
                    </a:lnTo>
                    <a:lnTo>
                      <a:pt x="636" y="952"/>
                    </a:lnTo>
                    <a:lnTo>
                      <a:pt x="693" y="1009"/>
                    </a:lnTo>
                    <a:lnTo>
                      <a:pt x="750" y="1067"/>
                    </a:lnTo>
                    <a:lnTo>
                      <a:pt x="807" y="1124"/>
                    </a:lnTo>
                    <a:lnTo>
                      <a:pt x="860" y="1177"/>
                    </a:lnTo>
                    <a:lnTo>
                      <a:pt x="918" y="1234"/>
                    </a:lnTo>
                    <a:lnTo>
                      <a:pt x="975" y="1292"/>
                    </a:lnTo>
                    <a:lnTo>
                      <a:pt x="1032" y="1350"/>
                    </a:lnTo>
                    <a:lnTo>
                      <a:pt x="1085" y="1403"/>
                    </a:lnTo>
                    <a:lnTo>
                      <a:pt x="1143" y="1460"/>
                    </a:lnTo>
                    <a:lnTo>
                      <a:pt x="1200" y="1517"/>
                    </a:lnTo>
                    <a:lnTo>
                      <a:pt x="1235" y="1588"/>
                    </a:lnTo>
                    <a:lnTo>
                      <a:pt x="1293" y="1645"/>
                    </a:lnTo>
                    <a:lnTo>
                      <a:pt x="1350" y="1703"/>
                    </a:lnTo>
                    <a:lnTo>
                      <a:pt x="1385" y="1782"/>
                    </a:lnTo>
                    <a:lnTo>
                      <a:pt x="1403" y="1870"/>
                    </a:lnTo>
                    <a:lnTo>
                      <a:pt x="1442" y="1945"/>
                    </a:lnTo>
                    <a:lnTo>
                      <a:pt x="1478" y="2025"/>
                    </a:lnTo>
                    <a:lnTo>
                      <a:pt x="1482" y="2135"/>
                    </a:lnTo>
                    <a:lnTo>
                      <a:pt x="1495" y="2227"/>
                    </a:lnTo>
                    <a:lnTo>
                      <a:pt x="1495" y="2342"/>
                    </a:lnTo>
                    <a:lnTo>
                      <a:pt x="1517" y="2435"/>
                    </a:lnTo>
                    <a:lnTo>
                      <a:pt x="1531" y="2527"/>
                    </a:lnTo>
                    <a:lnTo>
                      <a:pt x="1517" y="2620"/>
                    </a:lnTo>
                    <a:lnTo>
                      <a:pt x="1535" y="2717"/>
                    </a:lnTo>
                    <a:lnTo>
                      <a:pt x="1553" y="2805"/>
                    </a:lnTo>
                    <a:lnTo>
                      <a:pt x="1553" y="2920"/>
                    </a:lnTo>
                    <a:lnTo>
                      <a:pt x="1570" y="3017"/>
                    </a:lnTo>
                    <a:lnTo>
                      <a:pt x="1610" y="3092"/>
                    </a:lnTo>
                    <a:lnTo>
                      <a:pt x="1628" y="3180"/>
                    </a:lnTo>
                    <a:lnTo>
                      <a:pt x="1668" y="3255"/>
                    </a:lnTo>
                    <a:lnTo>
                      <a:pt x="1686" y="3352"/>
                    </a:lnTo>
                    <a:lnTo>
                      <a:pt x="1721" y="3422"/>
                    </a:lnTo>
                    <a:lnTo>
                      <a:pt x="1779" y="3480"/>
                    </a:lnTo>
                    <a:lnTo>
                      <a:pt x="1818" y="3555"/>
                    </a:lnTo>
                    <a:lnTo>
                      <a:pt x="1876" y="3612"/>
                    </a:lnTo>
                    <a:lnTo>
                      <a:pt x="1929" y="3665"/>
                    </a:lnTo>
                    <a:lnTo>
                      <a:pt x="1964" y="3744"/>
                    </a:lnTo>
                    <a:lnTo>
                      <a:pt x="2021" y="3802"/>
                    </a:lnTo>
                    <a:lnTo>
                      <a:pt x="2061" y="3877"/>
                    </a:lnTo>
                    <a:lnTo>
                      <a:pt x="2096" y="3947"/>
                    </a:lnTo>
                    <a:lnTo>
                      <a:pt x="2153" y="4006"/>
                    </a:lnTo>
                    <a:lnTo>
                      <a:pt x="2193" y="4080"/>
                    </a:lnTo>
                    <a:lnTo>
                      <a:pt x="843" y="5315"/>
                    </a:lnTo>
                    <a:close/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863720" y="2147760"/>
                <a:ext cx="1553040" cy="1189440"/>
              </a:xfrm>
              <a:custGeom>
                <a:avLst/>
                <a:gdLst/>
                <a:ahLst/>
                <a:rect l="0" t="0" r="r" b="b"/>
                <a:pathLst>
                  <a:path w="4314" h="3304">
                    <a:moveTo>
                      <a:pt x="4235" y="3304"/>
                    </a:moveTo>
                    <a:lnTo>
                      <a:pt x="4155" y="3260"/>
                    </a:lnTo>
                    <a:lnTo>
                      <a:pt x="4080" y="3229"/>
                    </a:lnTo>
                    <a:lnTo>
                      <a:pt x="3997" y="3225"/>
                    </a:lnTo>
                    <a:lnTo>
                      <a:pt x="3917" y="3225"/>
                    </a:lnTo>
                    <a:lnTo>
                      <a:pt x="3834" y="3203"/>
                    </a:lnTo>
                    <a:lnTo>
                      <a:pt x="3763" y="3177"/>
                    </a:lnTo>
                    <a:lnTo>
                      <a:pt x="3684" y="3177"/>
                    </a:lnTo>
                    <a:lnTo>
                      <a:pt x="3600" y="3119"/>
                    </a:lnTo>
                    <a:lnTo>
                      <a:pt x="3516" y="3097"/>
                    </a:lnTo>
                    <a:lnTo>
                      <a:pt x="3445" y="3071"/>
                    </a:lnTo>
                    <a:lnTo>
                      <a:pt x="3362" y="3049"/>
                    </a:lnTo>
                    <a:lnTo>
                      <a:pt x="3282" y="2987"/>
                    </a:lnTo>
                    <a:lnTo>
                      <a:pt x="3206" y="2938"/>
                    </a:lnTo>
                    <a:lnTo>
                      <a:pt x="3149" y="2855"/>
                    </a:lnTo>
                    <a:lnTo>
                      <a:pt x="3070" y="2810"/>
                    </a:lnTo>
                    <a:lnTo>
                      <a:pt x="2995" y="2753"/>
                    </a:lnTo>
                    <a:lnTo>
                      <a:pt x="2911" y="2705"/>
                    </a:lnTo>
                    <a:lnTo>
                      <a:pt x="2889" y="2621"/>
                    </a:lnTo>
                    <a:lnTo>
                      <a:pt x="2854" y="2542"/>
                    </a:lnTo>
                    <a:lnTo>
                      <a:pt x="2832" y="2457"/>
                    </a:lnTo>
                    <a:lnTo>
                      <a:pt x="2805" y="2386"/>
                    </a:lnTo>
                    <a:lnTo>
                      <a:pt x="2783" y="2302"/>
                    </a:lnTo>
                    <a:lnTo>
                      <a:pt x="2748" y="2223"/>
                    </a:lnTo>
                    <a:lnTo>
                      <a:pt x="2726" y="2139"/>
                    </a:lnTo>
                    <a:lnTo>
                      <a:pt x="2699" y="2069"/>
                    </a:lnTo>
                    <a:lnTo>
                      <a:pt x="2677" y="1985"/>
                    </a:lnTo>
                    <a:lnTo>
                      <a:pt x="2677" y="1906"/>
                    </a:lnTo>
                    <a:lnTo>
                      <a:pt x="2620" y="1831"/>
                    </a:lnTo>
                    <a:lnTo>
                      <a:pt x="2571" y="1747"/>
                    </a:lnTo>
                    <a:lnTo>
                      <a:pt x="2488" y="1663"/>
                    </a:lnTo>
                    <a:lnTo>
                      <a:pt x="2461" y="1584"/>
                    </a:lnTo>
                    <a:lnTo>
                      <a:pt x="2382" y="1513"/>
                    </a:lnTo>
                    <a:lnTo>
                      <a:pt x="2333" y="1429"/>
                    </a:lnTo>
                    <a:lnTo>
                      <a:pt x="2249" y="1372"/>
                    </a:lnTo>
                    <a:lnTo>
                      <a:pt x="2192" y="1297"/>
                    </a:lnTo>
                    <a:lnTo>
                      <a:pt x="2122" y="1244"/>
                    </a:lnTo>
                    <a:lnTo>
                      <a:pt x="2064" y="1169"/>
                    </a:lnTo>
                    <a:lnTo>
                      <a:pt x="1980" y="1085"/>
                    </a:lnTo>
                    <a:lnTo>
                      <a:pt x="1910" y="1032"/>
                    </a:lnTo>
                    <a:lnTo>
                      <a:pt x="1831" y="1006"/>
                    </a:lnTo>
                    <a:lnTo>
                      <a:pt x="1747" y="957"/>
                    </a:lnTo>
                    <a:lnTo>
                      <a:pt x="1672" y="927"/>
                    </a:lnTo>
                    <a:lnTo>
                      <a:pt x="1592" y="874"/>
                    </a:lnTo>
                    <a:lnTo>
                      <a:pt x="1509" y="878"/>
                    </a:lnTo>
                    <a:lnTo>
                      <a:pt x="1425" y="874"/>
                    </a:lnTo>
                    <a:lnTo>
                      <a:pt x="1319" y="874"/>
                    </a:lnTo>
                    <a:lnTo>
                      <a:pt x="1248" y="874"/>
                    </a:lnTo>
                    <a:lnTo>
                      <a:pt x="1169" y="874"/>
                    </a:lnTo>
                    <a:lnTo>
                      <a:pt x="1085" y="878"/>
                    </a:lnTo>
                    <a:lnTo>
                      <a:pt x="1005" y="852"/>
                    </a:lnTo>
                    <a:lnTo>
                      <a:pt x="926" y="815"/>
                    </a:lnTo>
                    <a:lnTo>
                      <a:pt x="846" y="789"/>
                    </a:lnTo>
                    <a:lnTo>
                      <a:pt x="762" y="767"/>
                    </a:lnTo>
                    <a:lnTo>
                      <a:pt x="692" y="740"/>
                    </a:lnTo>
                    <a:lnTo>
                      <a:pt x="608" y="745"/>
                    </a:lnTo>
                    <a:lnTo>
                      <a:pt x="529" y="709"/>
                    </a:lnTo>
                    <a:lnTo>
                      <a:pt x="445" y="661"/>
                    </a:lnTo>
                    <a:lnTo>
                      <a:pt x="374" y="608"/>
                    </a:lnTo>
                    <a:lnTo>
                      <a:pt x="317" y="533"/>
                    </a:lnTo>
                    <a:lnTo>
                      <a:pt x="238" y="498"/>
                    </a:lnTo>
                    <a:lnTo>
                      <a:pt x="211" y="427"/>
                    </a:lnTo>
                    <a:lnTo>
                      <a:pt x="127" y="343"/>
                    </a:lnTo>
                    <a:lnTo>
                      <a:pt x="105" y="260"/>
                    </a:lnTo>
                    <a:lnTo>
                      <a:pt x="79" y="189"/>
                    </a:lnTo>
                    <a:lnTo>
                      <a:pt x="57" y="105"/>
                    </a:lnTo>
                    <a:lnTo>
                      <a:pt x="0" y="22"/>
                    </a:lnTo>
                    <a:lnTo>
                      <a:pt x="83" y="0"/>
                    </a:lnTo>
                    <a:lnTo>
                      <a:pt x="163" y="0"/>
                    </a:lnTo>
                    <a:lnTo>
                      <a:pt x="238" y="48"/>
                    </a:lnTo>
                    <a:lnTo>
                      <a:pt x="317" y="83"/>
                    </a:lnTo>
                    <a:lnTo>
                      <a:pt x="374" y="158"/>
                    </a:lnTo>
                    <a:lnTo>
                      <a:pt x="445" y="211"/>
                    </a:lnTo>
                    <a:lnTo>
                      <a:pt x="529" y="295"/>
                    </a:lnTo>
                    <a:lnTo>
                      <a:pt x="612" y="317"/>
                    </a:lnTo>
                    <a:lnTo>
                      <a:pt x="692" y="317"/>
                    </a:lnTo>
                    <a:lnTo>
                      <a:pt x="767" y="321"/>
                    </a:lnTo>
                    <a:lnTo>
                      <a:pt x="851" y="343"/>
                    </a:lnTo>
                    <a:lnTo>
                      <a:pt x="930" y="370"/>
                    </a:lnTo>
                    <a:lnTo>
                      <a:pt x="1001" y="370"/>
                    </a:lnTo>
                    <a:lnTo>
                      <a:pt x="1085" y="366"/>
                    </a:lnTo>
                    <a:lnTo>
                      <a:pt x="1165" y="366"/>
                    </a:lnTo>
                    <a:lnTo>
                      <a:pt x="1248" y="370"/>
                    </a:lnTo>
                    <a:lnTo>
                      <a:pt x="1323" y="366"/>
                    </a:lnTo>
                    <a:lnTo>
                      <a:pt x="1403" y="366"/>
                    </a:lnTo>
                    <a:lnTo>
                      <a:pt x="1487" y="370"/>
                    </a:lnTo>
                    <a:lnTo>
                      <a:pt x="1566" y="370"/>
                    </a:lnTo>
                    <a:lnTo>
                      <a:pt x="1641" y="366"/>
                    </a:lnTo>
                    <a:lnTo>
                      <a:pt x="1720" y="366"/>
                    </a:lnTo>
                    <a:lnTo>
                      <a:pt x="1804" y="370"/>
                    </a:lnTo>
                    <a:lnTo>
                      <a:pt x="1879" y="392"/>
                    </a:lnTo>
                    <a:lnTo>
                      <a:pt x="1958" y="392"/>
                    </a:lnTo>
                    <a:lnTo>
                      <a:pt x="2038" y="392"/>
                    </a:lnTo>
                    <a:lnTo>
                      <a:pt x="2122" y="423"/>
                    </a:lnTo>
                    <a:lnTo>
                      <a:pt x="2192" y="476"/>
                    </a:lnTo>
                    <a:lnTo>
                      <a:pt x="2276" y="498"/>
                    </a:lnTo>
                    <a:lnTo>
                      <a:pt x="2360" y="529"/>
                    </a:lnTo>
                    <a:lnTo>
                      <a:pt x="2439" y="608"/>
                    </a:lnTo>
                    <a:lnTo>
                      <a:pt x="2510" y="661"/>
                    </a:lnTo>
                    <a:lnTo>
                      <a:pt x="2593" y="745"/>
                    </a:lnTo>
                    <a:lnTo>
                      <a:pt x="2677" y="793"/>
                    </a:lnTo>
                    <a:lnTo>
                      <a:pt x="2748" y="847"/>
                    </a:lnTo>
                    <a:lnTo>
                      <a:pt x="2805" y="922"/>
                    </a:lnTo>
                    <a:lnTo>
                      <a:pt x="2889" y="979"/>
                    </a:lnTo>
                    <a:lnTo>
                      <a:pt x="2964" y="1028"/>
                    </a:lnTo>
                    <a:lnTo>
                      <a:pt x="3043" y="1107"/>
                    </a:lnTo>
                    <a:lnTo>
                      <a:pt x="3123" y="1169"/>
                    </a:lnTo>
                    <a:lnTo>
                      <a:pt x="3206" y="1191"/>
                    </a:lnTo>
                    <a:lnTo>
                      <a:pt x="3282" y="1240"/>
                    </a:lnTo>
                    <a:lnTo>
                      <a:pt x="3362" y="1266"/>
                    </a:lnTo>
                    <a:lnTo>
                      <a:pt x="3445" y="1323"/>
                    </a:lnTo>
                    <a:lnTo>
                      <a:pt x="3516" y="1350"/>
                    </a:lnTo>
                    <a:lnTo>
                      <a:pt x="3600" y="1345"/>
                    </a:lnTo>
                    <a:lnTo>
                      <a:pt x="3679" y="1372"/>
                    </a:lnTo>
                    <a:lnTo>
                      <a:pt x="3759" y="1372"/>
                    </a:lnTo>
                    <a:lnTo>
                      <a:pt x="3838" y="1372"/>
                    </a:lnTo>
                    <a:lnTo>
                      <a:pt x="3917" y="1407"/>
                    </a:lnTo>
                    <a:lnTo>
                      <a:pt x="3997" y="1407"/>
                    </a:lnTo>
                    <a:lnTo>
                      <a:pt x="4080" y="1429"/>
                    </a:lnTo>
                    <a:lnTo>
                      <a:pt x="4155" y="1451"/>
                    </a:lnTo>
                    <a:lnTo>
                      <a:pt x="4235" y="1451"/>
                    </a:lnTo>
                    <a:lnTo>
                      <a:pt x="4314" y="1478"/>
                    </a:lnTo>
                    <a:lnTo>
                      <a:pt x="4235" y="3304"/>
                    </a:lnTo>
                    <a:close/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1709640" y="765000"/>
              <a:ext cx="5383800" cy="5429880"/>
              <a:chOff x="1709640" y="765000"/>
              <a:chExt cx="5383800" cy="5429880"/>
            </a:xfrm>
          </p:grpSpPr>
          <p:sp>
            <p:nvSpPr>
              <p:cNvPr id="58" name=""/>
              <p:cNvSpPr/>
              <p:nvPr/>
            </p:nvSpPr>
            <p:spPr>
              <a:xfrm>
                <a:off x="4908600" y="1646280"/>
                <a:ext cx="1698840" cy="1208520"/>
              </a:xfrm>
              <a:custGeom>
                <a:avLst/>
                <a:gdLst/>
                <a:ahLst/>
                <a:rect l="0" t="0" r="r" b="b"/>
                <a:pathLst>
                  <a:path w="4719" h="3357">
                    <a:moveTo>
                      <a:pt x="0" y="2542"/>
                    </a:moveTo>
                    <a:lnTo>
                      <a:pt x="83" y="2492"/>
                    </a:lnTo>
                    <a:lnTo>
                      <a:pt x="136" y="2426"/>
                    </a:lnTo>
                    <a:lnTo>
                      <a:pt x="167" y="2355"/>
                    </a:lnTo>
                    <a:lnTo>
                      <a:pt x="202" y="2280"/>
                    </a:lnTo>
                    <a:lnTo>
                      <a:pt x="260" y="2223"/>
                    </a:lnTo>
                    <a:lnTo>
                      <a:pt x="313" y="2161"/>
                    </a:lnTo>
                    <a:lnTo>
                      <a:pt x="348" y="2086"/>
                    </a:lnTo>
                    <a:lnTo>
                      <a:pt x="427" y="2038"/>
                    </a:lnTo>
                    <a:lnTo>
                      <a:pt x="480" y="1972"/>
                    </a:lnTo>
                    <a:lnTo>
                      <a:pt x="542" y="1914"/>
                    </a:lnTo>
                    <a:lnTo>
                      <a:pt x="595" y="1848"/>
                    </a:lnTo>
                    <a:lnTo>
                      <a:pt x="674" y="1800"/>
                    </a:lnTo>
                    <a:lnTo>
                      <a:pt x="758" y="1747"/>
                    </a:lnTo>
                    <a:lnTo>
                      <a:pt x="851" y="1729"/>
                    </a:lnTo>
                    <a:lnTo>
                      <a:pt x="934" y="1681"/>
                    </a:lnTo>
                    <a:lnTo>
                      <a:pt x="1014" y="1632"/>
                    </a:lnTo>
                    <a:lnTo>
                      <a:pt x="1093" y="1579"/>
                    </a:lnTo>
                    <a:lnTo>
                      <a:pt x="1177" y="1588"/>
                    </a:lnTo>
                    <a:lnTo>
                      <a:pt x="1261" y="1597"/>
                    </a:lnTo>
                    <a:lnTo>
                      <a:pt x="1344" y="1606"/>
                    </a:lnTo>
                    <a:lnTo>
                      <a:pt x="1424" y="1610"/>
                    </a:lnTo>
                    <a:lnTo>
                      <a:pt x="1512" y="1619"/>
                    </a:lnTo>
                    <a:lnTo>
                      <a:pt x="1591" y="1628"/>
                    </a:lnTo>
                    <a:lnTo>
                      <a:pt x="1675" y="1637"/>
                    </a:lnTo>
                    <a:lnTo>
                      <a:pt x="1759" y="1641"/>
                    </a:lnTo>
                    <a:lnTo>
                      <a:pt x="1843" y="1654"/>
                    </a:lnTo>
                    <a:lnTo>
                      <a:pt x="1913" y="1685"/>
                    </a:lnTo>
                    <a:lnTo>
                      <a:pt x="2010" y="1667"/>
                    </a:lnTo>
                    <a:lnTo>
                      <a:pt x="2103" y="1654"/>
                    </a:lnTo>
                    <a:lnTo>
                      <a:pt x="2204" y="1610"/>
                    </a:lnTo>
                    <a:lnTo>
                      <a:pt x="2293" y="1619"/>
                    </a:lnTo>
                    <a:lnTo>
                      <a:pt x="2395" y="1584"/>
                    </a:lnTo>
                    <a:lnTo>
                      <a:pt x="2492" y="1566"/>
                    </a:lnTo>
                    <a:lnTo>
                      <a:pt x="2571" y="1513"/>
                    </a:lnTo>
                    <a:lnTo>
                      <a:pt x="2664" y="1495"/>
                    </a:lnTo>
                    <a:lnTo>
                      <a:pt x="2748" y="1447"/>
                    </a:lnTo>
                    <a:lnTo>
                      <a:pt x="2840" y="1429"/>
                    </a:lnTo>
                    <a:lnTo>
                      <a:pt x="2946" y="1390"/>
                    </a:lnTo>
                    <a:lnTo>
                      <a:pt x="3026" y="1341"/>
                    </a:lnTo>
                    <a:lnTo>
                      <a:pt x="3078" y="1275"/>
                    </a:lnTo>
                    <a:lnTo>
                      <a:pt x="3162" y="1226"/>
                    </a:lnTo>
                    <a:lnTo>
                      <a:pt x="3220" y="1165"/>
                    </a:lnTo>
                    <a:lnTo>
                      <a:pt x="3299" y="1112"/>
                    </a:lnTo>
                    <a:lnTo>
                      <a:pt x="3334" y="1041"/>
                    </a:lnTo>
                    <a:lnTo>
                      <a:pt x="3365" y="966"/>
                    </a:lnTo>
                    <a:lnTo>
                      <a:pt x="3409" y="869"/>
                    </a:lnTo>
                    <a:lnTo>
                      <a:pt x="3440" y="798"/>
                    </a:lnTo>
                    <a:lnTo>
                      <a:pt x="3471" y="723"/>
                    </a:lnTo>
                    <a:lnTo>
                      <a:pt x="3506" y="652"/>
                    </a:lnTo>
                    <a:lnTo>
                      <a:pt x="3559" y="590"/>
                    </a:lnTo>
                    <a:lnTo>
                      <a:pt x="3616" y="529"/>
                    </a:lnTo>
                    <a:lnTo>
                      <a:pt x="3674" y="471"/>
                    </a:lnTo>
                    <a:lnTo>
                      <a:pt x="3731" y="405"/>
                    </a:lnTo>
                    <a:lnTo>
                      <a:pt x="3784" y="343"/>
                    </a:lnTo>
                    <a:lnTo>
                      <a:pt x="3819" y="268"/>
                    </a:lnTo>
                    <a:lnTo>
                      <a:pt x="3877" y="211"/>
                    </a:lnTo>
                    <a:lnTo>
                      <a:pt x="3956" y="158"/>
                    </a:lnTo>
                    <a:lnTo>
                      <a:pt x="4040" y="110"/>
                    </a:lnTo>
                    <a:lnTo>
                      <a:pt x="4132" y="92"/>
                    </a:lnTo>
                    <a:lnTo>
                      <a:pt x="4190" y="30"/>
                    </a:lnTo>
                    <a:lnTo>
                      <a:pt x="4269" y="39"/>
                    </a:lnTo>
                    <a:lnTo>
                      <a:pt x="4375" y="0"/>
                    </a:lnTo>
                    <a:lnTo>
                      <a:pt x="4459" y="4"/>
                    </a:lnTo>
                    <a:lnTo>
                      <a:pt x="4538" y="17"/>
                    </a:lnTo>
                    <a:lnTo>
                      <a:pt x="4626" y="22"/>
                    </a:lnTo>
                    <a:lnTo>
                      <a:pt x="4719" y="4"/>
                    </a:lnTo>
                    <a:lnTo>
                      <a:pt x="4710" y="92"/>
                    </a:lnTo>
                    <a:lnTo>
                      <a:pt x="4679" y="163"/>
                    </a:lnTo>
                    <a:lnTo>
                      <a:pt x="4600" y="216"/>
                    </a:lnTo>
                    <a:lnTo>
                      <a:pt x="4543" y="273"/>
                    </a:lnTo>
                    <a:lnTo>
                      <a:pt x="4450" y="291"/>
                    </a:lnTo>
                    <a:lnTo>
                      <a:pt x="4366" y="339"/>
                    </a:lnTo>
                    <a:lnTo>
                      <a:pt x="4260" y="383"/>
                    </a:lnTo>
                    <a:lnTo>
                      <a:pt x="4207" y="440"/>
                    </a:lnTo>
                    <a:lnTo>
                      <a:pt x="4172" y="515"/>
                    </a:lnTo>
                    <a:lnTo>
                      <a:pt x="4141" y="586"/>
                    </a:lnTo>
                    <a:lnTo>
                      <a:pt x="4084" y="652"/>
                    </a:lnTo>
                    <a:lnTo>
                      <a:pt x="4027" y="714"/>
                    </a:lnTo>
                    <a:lnTo>
                      <a:pt x="3996" y="784"/>
                    </a:lnTo>
                    <a:lnTo>
                      <a:pt x="3965" y="860"/>
                    </a:lnTo>
                    <a:lnTo>
                      <a:pt x="3930" y="931"/>
                    </a:lnTo>
                    <a:lnTo>
                      <a:pt x="3899" y="1006"/>
                    </a:lnTo>
                    <a:lnTo>
                      <a:pt x="3868" y="1076"/>
                    </a:lnTo>
                    <a:lnTo>
                      <a:pt x="3833" y="1151"/>
                    </a:lnTo>
                    <a:lnTo>
                      <a:pt x="3802" y="1222"/>
                    </a:lnTo>
                    <a:lnTo>
                      <a:pt x="3771" y="1297"/>
                    </a:lnTo>
                    <a:lnTo>
                      <a:pt x="3740" y="1368"/>
                    </a:lnTo>
                    <a:lnTo>
                      <a:pt x="3705" y="1438"/>
                    </a:lnTo>
                    <a:lnTo>
                      <a:pt x="3674" y="1513"/>
                    </a:lnTo>
                    <a:lnTo>
                      <a:pt x="3621" y="1570"/>
                    </a:lnTo>
                    <a:lnTo>
                      <a:pt x="3586" y="1645"/>
                    </a:lnTo>
                    <a:lnTo>
                      <a:pt x="3555" y="1716"/>
                    </a:lnTo>
                    <a:lnTo>
                      <a:pt x="3497" y="1782"/>
                    </a:lnTo>
                    <a:lnTo>
                      <a:pt x="3414" y="1831"/>
                    </a:lnTo>
                    <a:lnTo>
                      <a:pt x="3361" y="1892"/>
                    </a:lnTo>
                    <a:lnTo>
                      <a:pt x="3303" y="1954"/>
                    </a:lnTo>
                    <a:lnTo>
                      <a:pt x="3198" y="1994"/>
                    </a:lnTo>
                    <a:lnTo>
                      <a:pt x="3118" y="2047"/>
                    </a:lnTo>
                    <a:lnTo>
                      <a:pt x="3012" y="2082"/>
                    </a:lnTo>
                    <a:lnTo>
                      <a:pt x="2929" y="2139"/>
                    </a:lnTo>
                    <a:lnTo>
                      <a:pt x="2849" y="2188"/>
                    </a:lnTo>
                    <a:lnTo>
                      <a:pt x="2757" y="2201"/>
                    </a:lnTo>
                    <a:lnTo>
                      <a:pt x="2677" y="2254"/>
                    </a:lnTo>
                    <a:lnTo>
                      <a:pt x="2598" y="2307"/>
                    </a:lnTo>
                    <a:lnTo>
                      <a:pt x="2492" y="2346"/>
                    </a:lnTo>
                    <a:lnTo>
                      <a:pt x="2413" y="2395"/>
                    </a:lnTo>
                    <a:lnTo>
                      <a:pt x="2354" y="2457"/>
                    </a:lnTo>
                    <a:lnTo>
                      <a:pt x="2271" y="2510"/>
                    </a:lnTo>
                    <a:lnTo>
                      <a:pt x="2218" y="2572"/>
                    </a:lnTo>
                    <a:lnTo>
                      <a:pt x="2138" y="2625"/>
                    </a:lnTo>
                    <a:lnTo>
                      <a:pt x="2076" y="2683"/>
                    </a:lnTo>
                    <a:lnTo>
                      <a:pt x="2046" y="2758"/>
                    </a:lnTo>
                    <a:lnTo>
                      <a:pt x="1993" y="2819"/>
                    </a:lnTo>
                    <a:lnTo>
                      <a:pt x="1957" y="2894"/>
                    </a:lnTo>
                    <a:lnTo>
                      <a:pt x="1927" y="2965"/>
                    </a:lnTo>
                    <a:lnTo>
                      <a:pt x="1869" y="3022"/>
                    </a:lnTo>
                    <a:lnTo>
                      <a:pt x="1834" y="3097"/>
                    </a:lnTo>
                    <a:lnTo>
                      <a:pt x="1781" y="3159"/>
                    </a:lnTo>
                    <a:lnTo>
                      <a:pt x="1724" y="3225"/>
                    </a:lnTo>
                    <a:lnTo>
                      <a:pt x="1688" y="3296"/>
                    </a:lnTo>
                    <a:lnTo>
                      <a:pt x="1636" y="3357"/>
                    </a:lnTo>
                    <a:lnTo>
                      <a:pt x="0" y="2542"/>
                    </a:lnTo>
                    <a:close/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246640" y="3151080"/>
                <a:ext cx="1846800" cy="722520"/>
              </a:xfrm>
              <a:custGeom>
                <a:avLst/>
                <a:gdLst/>
                <a:ahLst/>
                <a:rect l="0" t="0" r="r" b="b"/>
                <a:pathLst>
                  <a:path w="5130" h="2007">
                    <a:moveTo>
                      <a:pt x="0" y="74"/>
                    </a:moveTo>
                    <a:lnTo>
                      <a:pt x="92" y="92"/>
                    </a:lnTo>
                    <a:lnTo>
                      <a:pt x="176" y="97"/>
                    </a:lnTo>
                    <a:lnTo>
                      <a:pt x="251" y="66"/>
                    </a:lnTo>
                    <a:lnTo>
                      <a:pt x="326" y="35"/>
                    </a:lnTo>
                    <a:lnTo>
                      <a:pt x="410" y="30"/>
                    </a:lnTo>
                    <a:lnTo>
                      <a:pt x="489" y="30"/>
                    </a:lnTo>
                    <a:lnTo>
                      <a:pt x="568" y="0"/>
                    </a:lnTo>
                    <a:lnTo>
                      <a:pt x="661" y="22"/>
                    </a:lnTo>
                    <a:lnTo>
                      <a:pt x="745" y="17"/>
                    </a:lnTo>
                    <a:lnTo>
                      <a:pt x="824" y="13"/>
                    </a:lnTo>
                    <a:lnTo>
                      <a:pt x="908" y="4"/>
                    </a:lnTo>
                    <a:lnTo>
                      <a:pt x="1001" y="30"/>
                    </a:lnTo>
                    <a:lnTo>
                      <a:pt x="1093" y="48"/>
                    </a:lnTo>
                    <a:lnTo>
                      <a:pt x="1172" y="105"/>
                    </a:lnTo>
                    <a:lnTo>
                      <a:pt x="1265" y="123"/>
                    </a:lnTo>
                    <a:lnTo>
                      <a:pt x="1359" y="145"/>
                    </a:lnTo>
                    <a:lnTo>
                      <a:pt x="1451" y="167"/>
                    </a:lnTo>
                    <a:lnTo>
                      <a:pt x="1504" y="233"/>
                    </a:lnTo>
                    <a:lnTo>
                      <a:pt x="1562" y="295"/>
                    </a:lnTo>
                    <a:lnTo>
                      <a:pt x="1614" y="366"/>
                    </a:lnTo>
                    <a:lnTo>
                      <a:pt x="1663" y="427"/>
                    </a:lnTo>
                    <a:lnTo>
                      <a:pt x="1716" y="493"/>
                    </a:lnTo>
                    <a:lnTo>
                      <a:pt x="1773" y="555"/>
                    </a:lnTo>
                    <a:lnTo>
                      <a:pt x="1826" y="626"/>
                    </a:lnTo>
                    <a:lnTo>
                      <a:pt x="1879" y="683"/>
                    </a:lnTo>
                    <a:lnTo>
                      <a:pt x="1928" y="749"/>
                    </a:lnTo>
                    <a:lnTo>
                      <a:pt x="1958" y="829"/>
                    </a:lnTo>
                    <a:lnTo>
                      <a:pt x="2038" y="877"/>
                    </a:lnTo>
                    <a:lnTo>
                      <a:pt x="2113" y="934"/>
                    </a:lnTo>
                    <a:lnTo>
                      <a:pt x="2219" y="978"/>
                    </a:lnTo>
                    <a:lnTo>
                      <a:pt x="2272" y="1050"/>
                    </a:lnTo>
                    <a:lnTo>
                      <a:pt x="2373" y="1090"/>
                    </a:lnTo>
                    <a:lnTo>
                      <a:pt x="2452" y="1147"/>
                    </a:lnTo>
                    <a:lnTo>
                      <a:pt x="2545" y="1173"/>
                    </a:lnTo>
                    <a:lnTo>
                      <a:pt x="2624" y="1218"/>
                    </a:lnTo>
                    <a:lnTo>
                      <a:pt x="2712" y="1248"/>
                    </a:lnTo>
                    <a:lnTo>
                      <a:pt x="2792" y="1293"/>
                    </a:lnTo>
                    <a:lnTo>
                      <a:pt x="2898" y="1341"/>
                    </a:lnTo>
                    <a:lnTo>
                      <a:pt x="2986" y="1368"/>
                    </a:lnTo>
                    <a:lnTo>
                      <a:pt x="3074" y="1359"/>
                    </a:lnTo>
                    <a:lnTo>
                      <a:pt x="3167" y="1381"/>
                    </a:lnTo>
                    <a:lnTo>
                      <a:pt x="3250" y="1381"/>
                    </a:lnTo>
                    <a:lnTo>
                      <a:pt x="3343" y="1398"/>
                    </a:lnTo>
                    <a:lnTo>
                      <a:pt x="3418" y="1372"/>
                    </a:lnTo>
                    <a:lnTo>
                      <a:pt x="3489" y="1341"/>
                    </a:lnTo>
                    <a:lnTo>
                      <a:pt x="3590" y="1306"/>
                    </a:lnTo>
                    <a:lnTo>
                      <a:pt x="3661" y="1279"/>
                    </a:lnTo>
                    <a:lnTo>
                      <a:pt x="3736" y="1248"/>
                    </a:lnTo>
                    <a:lnTo>
                      <a:pt x="3815" y="1218"/>
                    </a:lnTo>
                    <a:lnTo>
                      <a:pt x="3895" y="1213"/>
                    </a:lnTo>
                    <a:lnTo>
                      <a:pt x="3979" y="1213"/>
                    </a:lnTo>
                    <a:lnTo>
                      <a:pt x="4063" y="1209"/>
                    </a:lnTo>
                    <a:lnTo>
                      <a:pt x="4151" y="1204"/>
                    </a:lnTo>
                    <a:lnTo>
                      <a:pt x="4226" y="1200"/>
                    </a:lnTo>
                    <a:lnTo>
                      <a:pt x="4301" y="1173"/>
                    </a:lnTo>
                    <a:lnTo>
                      <a:pt x="4389" y="1169"/>
                    </a:lnTo>
                    <a:lnTo>
                      <a:pt x="4482" y="1191"/>
                    </a:lnTo>
                    <a:lnTo>
                      <a:pt x="4574" y="1213"/>
                    </a:lnTo>
                    <a:lnTo>
                      <a:pt x="4649" y="1266"/>
                    </a:lnTo>
                    <a:lnTo>
                      <a:pt x="4742" y="1262"/>
                    </a:lnTo>
                    <a:lnTo>
                      <a:pt x="4786" y="1328"/>
                    </a:lnTo>
                    <a:lnTo>
                      <a:pt x="4892" y="1372"/>
                    </a:lnTo>
                    <a:lnTo>
                      <a:pt x="4949" y="1438"/>
                    </a:lnTo>
                    <a:lnTo>
                      <a:pt x="4993" y="1500"/>
                    </a:lnTo>
                    <a:lnTo>
                      <a:pt x="5051" y="1566"/>
                    </a:lnTo>
                    <a:lnTo>
                      <a:pt x="5130" y="1619"/>
                    </a:lnTo>
                    <a:lnTo>
                      <a:pt x="5064" y="1676"/>
                    </a:lnTo>
                    <a:lnTo>
                      <a:pt x="4989" y="1703"/>
                    </a:lnTo>
                    <a:lnTo>
                      <a:pt x="4901" y="1681"/>
                    </a:lnTo>
                    <a:lnTo>
                      <a:pt x="4813" y="1685"/>
                    </a:lnTo>
                    <a:lnTo>
                      <a:pt x="4733" y="1632"/>
                    </a:lnTo>
                    <a:lnTo>
                      <a:pt x="4645" y="1610"/>
                    </a:lnTo>
                    <a:lnTo>
                      <a:pt x="4539" y="1562"/>
                    </a:lnTo>
                    <a:lnTo>
                      <a:pt x="4451" y="1566"/>
                    </a:lnTo>
                    <a:lnTo>
                      <a:pt x="4380" y="1597"/>
                    </a:lnTo>
                    <a:lnTo>
                      <a:pt x="4310" y="1623"/>
                    </a:lnTo>
                    <a:lnTo>
                      <a:pt x="4226" y="1628"/>
                    </a:lnTo>
                    <a:lnTo>
                      <a:pt x="4142" y="1632"/>
                    </a:lnTo>
                    <a:lnTo>
                      <a:pt x="4072" y="1663"/>
                    </a:lnTo>
                    <a:lnTo>
                      <a:pt x="3997" y="1689"/>
                    </a:lnTo>
                    <a:lnTo>
                      <a:pt x="3922" y="1720"/>
                    </a:lnTo>
                    <a:lnTo>
                      <a:pt x="3841" y="1751"/>
                    </a:lnTo>
                    <a:lnTo>
                      <a:pt x="3771" y="1778"/>
                    </a:lnTo>
                    <a:lnTo>
                      <a:pt x="3696" y="1804"/>
                    </a:lnTo>
                    <a:lnTo>
                      <a:pt x="3621" y="1831"/>
                    </a:lnTo>
                    <a:lnTo>
                      <a:pt x="3542" y="1861"/>
                    </a:lnTo>
                    <a:lnTo>
                      <a:pt x="3475" y="1888"/>
                    </a:lnTo>
                    <a:lnTo>
                      <a:pt x="3400" y="1919"/>
                    </a:lnTo>
                    <a:lnTo>
                      <a:pt x="3325" y="1950"/>
                    </a:lnTo>
                    <a:lnTo>
                      <a:pt x="3246" y="1950"/>
                    </a:lnTo>
                    <a:lnTo>
                      <a:pt x="3167" y="1980"/>
                    </a:lnTo>
                    <a:lnTo>
                      <a:pt x="3092" y="2007"/>
                    </a:lnTo>
                    <a:lnTo>
                      <a:pt x="3008" y="2007"/>
                    </a:lnTo>
                    <a:lnTo>
                      <a:pt x="2920" y="1989"/>
                    </a:lnTo>
                    <a:lnTo>
                      <a:pt x="2836" y="1994"/>
                    </a:lnTo>
                    <a:lnTo>
                      <a:pt x="2748" y="1994"/>
                    </a:lnTo>
                    <a:lnTo>
                      <a:pt x="2646" y="1954"/>
                    </a:lnTo>
                    <a:lnTo>
                      <a:pt x="2558" y="1928"/>
                    </a:lnTo>
                    <a:lnTo>
                      <a:pt x="2452" y="1879"/>
                    </a:lnTo>
                    <a:lnTo>
                      <a:pt x="2360" y="1866"/>
                    </a:lnTo>
                    <a:lnTo>
                      <a:pt x="2267" y="1835"/>
                    </a:lnTo>
                    <a:lnTo>
                      <a:pt x="2188" y="1791"/>
                    </a:lnTo>
                    <a:lnTo>
                      <a:pt x="2091" y="1764"/>
                    </a:lnTo>
                    <a:lnTo>
                      <a:pt x="2003" y="1747"/>
                    </a:lnTo>
                    <a:lnTo>
                      <a:pt x="1897" y="1698"/>
                    </a:lnTo>
                    <a:lnTo>
                      <a:pt x="1804" y="1676"/>
                    </a:lnTo>
                    <a:lnTo>
                      <a:pt x="1716" y="1681"/>
                    </a:lnTo>
                    <a:lnTo>
                      <a:pt x="1632" y="1663"/>
                    </a:lnTo>
                    <a:lnTo>
                      <a:pt x="1548" y="1667"/>
                    </a:lnTo>
                    <a:lnTo>
                      <a:pt x="1451" y="1641"/>
                    </a:lnTo>
                    <a:lnTo>
                      <a:pt x="1372" y="1650"/>
                    </a:lnTo>
                    <a:lnTo>
                      <a:pt x="1297" y="1681"/>
                    </a:lnTo>
                    <a:lnTo>
                      <a:pt x="1212" y="1685"/>
                    </a:lnTo>
                    <a:lnTo>
                      <a:pt x="1137" y="1711"/>
                    </a:lnTo>
                    <a:lnTo>
                      <a:pt x="1067" y="1738"/>
                    </a:lnTo>
                    <a:lnTo>
                      <a:pt x="978" y="1738"/>
                    </a:lnTo>
                    <a:lnTo>
                      <a:pt x="899" y="1769"/>
                    </a:lnTo>
                    <a:lnTo>
                      <a:pt x="820" y="1773"/>
                    </a:lnTo>
                    <a:lnTo>
                      <a:pt x="736" y="1773"/>
                    </a:lnTo>
                    <a:lnTo>
                      <a:pt x="661" y="1804"/>
                    </a:lnTo>
                    <a:lnTo>
                      <a:pt x="582" y="1808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95360" y="4037040"/>
                <a:ext cx="1698840" cy="1208520"/>
              </a:xfrm>
              <a:custGeom>
                <a:avLst/>
                <a:gdLst/>
                <a:ahLst/>
                <a:rect l="0" t="0" r="r" b="b"/>
                <a:pathLst>
                  <a:path w="4719" h="3357">
                    <a:moveTo>
                      <a:pt x="4719" y="811"/>
                    </a:moveTo>
                    <a:lnTo>
                      <a:pt x="4640" y="869"/>
                    </a:lnTo>
                    <a:lnTo>
                      <a:pt x="4582" y="927"/>
                    </a:lnTo>
                    <a:lnTo>
                      <a:pt x="4547" y="997"/>
                    </a:lnTo>
                    <a:lnTo>
                      <a:pt x="4512" y="1072"/>
                    </a:lnTo>
                    <a:lnTo>
                      <a:pt x="4459" y="1138"/>
                    </a:lnTo>
                    <a:lnTo>
                      <a:pt x="4401" y="1196"/>
                    </a:lnTo>
                    <a:lnTo>
                      <a:pt x="4371" y="1266"/>
                    </a:lnTo>
                    <a:lnTo>
                      <a:pt x="4287" y="1319"/>
                    </a:lnTo>
                    <a:lnTo>
                      <a:pt x="4229" y="1390"/>
                    </a:lnTo>
                    <a:lnTo>
                      <a:pt x="4181" y="1438"/>
                    </a:lnTo>
                    <a:lnTo>
                      <a:pt x="4124" y="1509"/>
                    </a:lnTo>
                    <a:lnTo>
                      <a:pt x="4035" y="1553"/>
                    </a:lnTo>
                    <a:lnTo>
                      <a:pt x="3960" y="1606"/>
                    </a:lnTo>
                    <a:lnTo>
                      <a:pt x="3868" y="1623"/>
                    </a:lnTo>
                    <a:lnTo>
                      <a:pt x="3788" y="1676"/>
                    </a:lnTo>
                    <a:lnTo>
                      <a:pt x="3705" y="1725"/>
                    </a:lnTo>
                    <a:lnTo>
                      <a:pt x="3630" y="1778"/>
                    </a:lnTo>
                    <a:lnTo>
                      <a:pt x="3542" y="1764"/>
                    </a:lnTo>
                    <a:lnTo>
                      <a:pt x="3453" y="1764"/>
                    </a:lnTo>
                    <a:lnTo>
                      <a:pt x="3370" y="1751"/>
                    </a:lnTo>
                    <a:lnTo>
                      <a:pt x="3295" y="1747"/>
                    </a:lnTo>
                    <a:lnTo>
                      <a:pt x="3211" y="1729"/>
                    </a:lnTo>
                    <a:lnTo>
                      <a:pt x="3123" y="1734"/>
                    </a:lnTo>
                    <a:lnTo>
                      <a:pt x="3039" y="1716"/>
                    </a:lnTo>
                    <a:lnTo>
                      <a:pt x="2959" y="1716"/>
                    </a:lnTo>
                    <a:lnTo>
                      <a:pt x="2876" y="1698"/>
                    </a:lnTo>
                    <a:lnTo>
                      <a:pt x="2801" y="1667"/>
                    </a:lnTo>
                    <a:lnTo>
                      <a:pt x="2712" y="1689"/>
                    </a:lnTo>
                    <a:lnTo>
                      <a:pt x="2615" y="1698"/>
                    </a:lnTo>
                    <a:lnTo>
                      <a:pt x="2510" y="1742"/>
                    </a:lnTo>
                    <a:lnTo>
                      <a:pt x="2430" y="1729"/>
                    </a:lnTo>
                    <a:lnTo>
                      <a:pt x="2323" y="1782"/>
                    </a:lnTo>
                    <a:lnTo>
                      <a:pt x="2226" y="1791"/>
                    </a:lnTo>
                    <a:lnTo>
                      <a:pt x="2147" y="1839"/>
                    </a:lnTo>
                    <a:lnTo>
                      <a:pt x="2054" y="1861"/>
                    </a:lnTo>
                    <a:lnTo>
                      <a:pt x="1971" y="1906"/>
                    </a:lnTo>
                    <a:lnTo>
                      <a:pt x="1882" y="1928"/>
                    </a:lnTo>
                    <a:lnTo>
                      <a:pt x="1772" y="1967"/>
                    </a:lnTo>
                    <a:lnTo>
                      <a:pt x="1693" y="2011"/>
                    </a:lnTo>
                    <a:lnTo>
                      <a:pt x="1636" y="2077"/>
                    </a:lnTo>
                    <a:lnTo>
                      <a:pt x="1556" y="2130"/>
                    </a:lnTo>
                    <a:lnTo>
                      <a:pt x="1499" y="2188"/>
                    </a:lnTo>
                    <a:lnTo>
                      <a:pt x="1419" y="2241"/>
                    </a:lnTo>
                    <a:lnTo>
                      <a:pt x="1389" y="2316"/>
                    </a:lnTo>
                    <a:lnTo>
                      <a:pt x="1358" y="2391"/>
                    </a:lnTo>
                    <a:lnTo>
                      <a:pt x="1314" y="2488"/>
                    </a:lnTo>
                    <a:lnTo>
                      <a:pt x="1278" y="2555"/>
                    </a:lnTo>
                    <a:lnTo>
                      <a:pt x="1247" y="2630"/>
                    </a:lnTo>
                    <a:lnTo>
                      <a:pt x="1217" y="2705"/>
                    </a:lnTo>
                    <a:lnTo>
                      <a:pt x="1159" y="2771"/>
                    </a:lnTo>
                    <a:lnTo>
                      <a:pt x="1102" y="2824"/>
                    </a:lnTo>
                    <a:lnTo>
                      <a:pt x="1045" y="2885"/>
                    </a:lnTo>
                    <a:lnTo>
                      <a:pt x="992" y="2952"/>
                    </a:lnTo>
                    <a:lnTo>
                      <a:pt x="930" y="3005"/>
                    </a:lnTo>
                    <a:lnTo>
                      <a:pt x="899" y="3088"/>
                    </a:lnTo>
                    <a:lnTo>
                      <a:pt x="846" y="3141"/>
                    </a:lnTo>
                    <a:lnTo>
                      <a:pt x="767" y="3199"/>
                    </a:lnTo>
                    <a:lnTo>
                      <a:pt x="683" y="3243"/>
                    </a:lnTo>
                    <a:lnTo>
                      <a:pt x="590" y="3265"/>
                    </a:lnTo>
                    <a:lnTo>
                      <a:pt x="524" y="3326"/>
                    </a:lnTo>
                    <a:lnTo>
                      <a:pt x="449" y="3318"/>
                    </a:lnTo>
                    <a:lnTo>
                      <a:pt x="343" y="3357"/>
                    </a:lnTo>
                    <a:lnTo>
                      <a:pt x="260" y="3344"/>
                    </a:lnTo>
                    <a:lnTo>
                      <a:pt x="180" y="3344"/>
                    </a:lnTo>
                    <a:lnTo>
                      <a:pt x="97" y="3331"/>
                    </a:lnTo>
                    <a:lnTo>
                      <a:pt x="0" y="3344"/>
                    </a:lnTo>
                    <a:lnTo>
                      <a:pt x="8" y="3265"/>
                    </a:lnTo>
                    <a:lnTo>
                      <a:pt x="39" y="3190"/>
                    </a:lnTo>
                    <a:lnTo>
                      <a:pt x="114" y="3141"/>
                    </a:lnTo>
                    <a:lnTo>
                      <a:pt x="180" y="3084"/>
                    </a:lnTo>
                    <a:lnTo>
                      <a:pt x="273" y="3062"/>
                    </a:lnTo>
                    <a:lnTo>
                      <a:pt x="357" y="3018"/>
                    </a:lnTo>
                    <a:lnTo>
                      <a:pt x="458" y="2974"/>
                    </a:lnTo>
                    <a:lnTo>
                      <a:pt x="515" y="2908"/>
                    </a:lnTo>
                    <a:lnTo>
                      <a:pt x="546" y="2833"/>
                    </a:lnTo>
                    <a:lnTo>
                      <a:pt x="577" y="2771"/>
                    </a:lnTo>
                    <a:lnTo>
                      <a:pt x="635" y="2705"/>
                    </a:lnTo>
                    <a:lnTo>
                      <a:pt x="687" y="2639"/>
                    </a:lnTo>
                    <a:lnTo>
                      <a:pt x="718" y="2572"/>
                    </a:lnTo>
                    <a:lnTo>
                      <a:pt x="754" y="2492"/>
                    </a:lnTo>
                    <a:lnTo>
                      <a:pt x="784" y="2421"/>
                    </a:lnTo>
                    <a:lnTo>
                      <a:pt x="815" y="2346"/>
                    </a:lnTo>
                    <a:lnTo>
                      <a:pt x="846" y="2280"/>
                    </a:lnTo>
                    <a:lnTo>
                      <a:pt x="881" y="2201"/>
                    </a:lnTo>
                    <a:lnTo>
                      <a:pt x="912" y="2130"/>
                    </a:lnTo>
                    <a:lnTo>
                      <a:pt x="948" y="2060"/>
                    </a:lnTo>
                    <a:lnTo>
                      <a:pt x="978" y="1989"/>
                    </a:lnTo>
                    <a:lnTo>
                      <a:pt x="1009" y="1914"/>
                    </a:lnTo>
                    <a:lnTo>
                      <a:pt x="1045" y="1839"/>
                    </a:lnTo>
                    <a:lnTo>
                      <a:pt x="1098" y="1782"/>
                    </a:lnTo>
                    <a:lnTo>
                      <a:pt x="1128" y="1707"/>
                    </a:lnTo>
                    <a:lnTo>
                      <a:pt x="1168" y="1637"/>
                    </a:lnTo>
                    <a:lnTo>
                      <a:pt x="1221" y="1570"/>
                    </a:lnTo>
                    <a:lnTo>
                      <a:pt x="1296" y="1531"/>
                    </a:lnTo>
                    <a:lnTo>
                      <a:pt x="1353" y="1460"/>
                    </a:lnTo>
                    <a:lnTo>
                      <a:pt x="1415" y="1398"/>
                    </a:lnTo>
                    <a:lnTo>
                      <a:pt x="1521" y="1359"/>
                    </a:lnTo>
                    <a:lnTo>
                      <a:pt x="1605" y="1310"/>
                    </a:lnTo>
                    <a:lnTo>
                      <a:pt x="1706" y="1275"/>
                    </a:lnTo>
                    <a:lnTo>
                      <a:pt x="1785" y="1213"/>
                    </a:lnTo>
                    <a:lnTo>
                      <a:pt x="1869" y="1173"/>
                    </a:lnTo>
                    <a:lnTo>
                      <a:pt x="1962" y="1147"/>
                    </a:lnTo>
                    <a:lnTo>
                      <a:pt x="2046" y="1094"/>
                    </a:lnTo>
                    <a:lnTo>
                      <a:pt x="2121" y="1050"/>
                    </a:lnTo>
                    <a:lnTo>
                      <a:pt x="2226" y="1010"/>
                    </a:lnTo>
                    <a:lnTo>
                      <a:pt x="2310" y="962"/>
                    </a:lnTo>
                    <a:lnTo>
                      <a:pt x="2364" y="896"/>
                    </a:lnTo>
                    <a:lnTo>
                      <a:pt x="2439" y="843"/>
                    </a:lnTo>
                    <a:lnTo>
                      <a:pt x="2496" y="784"/>
                    </a:lnTo>
                    <a:lnTo>
                      <a:pt x="2585" y="727"/>
                    </a:lnTo>
                    <a:lnTo>
                      <a:pt x="2633" y="674"/>
                    </a:lnTo>
                    <a:lnTo>
                      <a:pt x="2673" y="595"/>
                    </a:lnTo>
                    <a:lnTo>
                      <a:pt x="2730" y="533"/>
                    </a:lnTo>
                    <a:lnTo>
                      <a:pt x="2761" y="463"/>
                    </a:lnTo>
                    <a:lnTo>
                      <a:pt x="2787" y="392"/>
                    </a:lnTo>
                    <a:lnTo>
                      <a:pt x="2849" y="335"/>
                    </a:lnTo>
                    <a:lnTo>
                      <a:pt x="2884" y="260"/>
                    </a:lnTo>
                    <a:lnTo>
                      <a:pt x="2942" y="194"/>
                    </a:lnTo>
                    <a:lnTo>
                      <a:pt x="2986" y="132"/>
                    </a:lnTo>
                    <a:lnTo>
                      <a:pt x="3026" y="57"/>
                    </a:lnTo>
                    <a:lnTo>
                      <a:pt x="3083" y="0"/>
                    </a:lnTo>
                    <a:lnTo>
                      <a:pt x="4719" y="811"/>
                    </a:lnTo>
                    <a:close/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021200" y="4346640"/>
                <a:ext cx="725760" cy="1848240"/>
              </a:xfrm>
              <a:custGeom>
                <a:avLst/>
                <a:gdLst/>
                <a:ahLst/>
                <a:rect l="0" t="0" r="r" b="b"/>
                <a:pathLst>
                  <a:path w="2016" h="5134">
                    <a:moveTo>
                      <a:pt x="1936" y="0"/>
                    </a:moveTo>
                    <a:lnTo>
                      <a:pt x="1919" y="92"/>
                    </a:lnTo>
                    <a:lnTo>
                      <a:pt x="1914" y="176"/>
                    </a:lnTo>
                    <a:lnTo>
                      <a:pt x="1945" y="251"/>
                    </a:lnTo>
                    <a:lnTo>
                      <a:pt x="1976" y="330"/>
                    </a:lnTo>
                    <a:lnTo>
                      <a:pt x="1980" y="418"/>
                    </a:lnTo>
                    <a:lnTo>
                      <a:pt x="1985" y="493"/>
                    </a:lnTo>
                    <a:lnTo>
                      <a:pt x="2016" y="568"/>
                    </a:lnTo>
                    <a:lnTo>
                      <a:pt x="1989" y="665"/>
                    </a:lnTo>
                    <a:lnTo>
                      <a:pt x="1994" y="754"/>
                    </a:lnTo>
                    <a:lnTo>
                      <a:pt x="1998" y="824"/>
                    </a:lnTo>
                    <a:lnTo>
                      <a:pt x="2007" y="917"/>
                    </a:lnTo>
                    <a:lnTo>
                      <a:pt x="1980" y="1005"/>
                    </a:lnTo>
                    <a:lnTo>
                      <a:pt x="1958" y="1093"/>
                    </a:lnTo>
                    <a:lnTo>
                      <a:pt x="1906" y="1177"/>
                    </a:lnTo>
                    <a:lnTo>
                      <a:pt x="1888" y="1270"/>
                    </a:lnTo>
                    <a:lnTo>
                      <a:pt x="1861" y="1359"/>
                    </a:lnTo>
                    <a:lnTo>
                      <a:pt x="1844" y="1456"/>
                    </a:lnTo>
                    <a:lnTo>
                      <a:pt x="1778" y="1504"/>
                    </a:lnTo>
                    <a:lnTo>
                      <a:pt x="1716" y="1570"/>
                    </a:lnTo>
                    <a:lnTo>
                      <a:pt x="1650" y="1623"/>
                    </a:lnTo>
                    <a:lnTo>
                      <a:pt x="1588" y="1672"/>
                    </a:lnTo>
                    <a:lnTo>
                      <a:pt x="1517" y="1720"/>
                    </a:lnTo>
                    <a:lnTo>
                      <a:pt x="1456" y="1782"/>
                    </a:lnTo>
                    <a:lnTo>
                      <a:pt x="1390" y="1831"/>
                    </a:lnTo>
                    <a:lnTo>
                      <a:pt x="1328" y="1888"/>
                    </a:lnTo>
                    <a:lnTo>
                      <a:pt x="1257" y="1932"/>
                    </a:lnTo>
                    <a:lnTo>
                      <a:pt x="1182" y="1958"/>
                    </a:lnTo>
                    <a:lnTo>
                      <a:pt x="1138" y="2038"/>
                    </a:lnTo>
                    <a:lnTo>
                      <a:pt x="1076" y="2113"/>
                    </a:lnTo>
                    <a:lnTo>
                      <a:pt x="1028" y="2219"/>
                    </a:lnTo>
                    <a:lnTo>
                      <a:pt x="965" y="2276"/>
                    </a:lnTo>
                    <a:lnTo>
                      <a:pt x="926" y="2377"/>
                    </a:lnTo>
                    <a:lnTo>
                      <a:pt x="864" y="2452"/>
                    </a:lnTo>
                    <a:lnTo>
                      <a:pt x="842" y="2549"/>
                    </a:lnTo>
                    <a:lnTo>
                      <a:pt x="789" y="2624"/>
                    </a:lnTo>
                    <a:lnTo>
                      <a:pt x="767" y="2717"/>
                    </a:lnTo>
                    <a:lnTo>
                      <a:pt x="718" y="2801"/>
                    </a:lnTo>
                    <a:lnTo>
                      <a:pt x="670" y="2898"/>
                    </a:lnTo>
                    <a:lnTo>
                      <a:pt x="643" y="2990"/>
                    </a:lnTo>
                    <a:lnTo>
                      <a:pt x="648" y="3074"/>
                    </a:lnTo>
                    <a:lnTo>
                      <a:pt x="635" y="3167"/>
                    </a:lnTo>
                    <a:lnTo>
                      <a:pt x="630" y="3250"/>
                    </a:lnTo>
                    <a:lnTo>
                      <a:pt x="612" y="3343"/>
                    </a:lnTo>
                    <a:lnTo>
                      <a:pt x="648" y="3422"/>
                    </a:lnTo>
                    <a:lnTo>
                      <a:pt x="674" y="3493"/>
                    </a:lnTo>
                    <a:lnTo>
                      <a:pt x="714" y="3590"/>
                    </a:lnTo>
                    <a:lnTo>
                      <a:pt x="736" y="3661"/>
                    </a:lnTo>
                    <a:lnTo>
                      <a:pt x="767" y="3740"/>
                    </a:lnTo>
                    <a:lnTo>
                      <a:pt x="798" y="3819"/>
                    </a:lnTo>
                    <a:lnTo>
                      <a:pt x="798" y="3900"/>
                    </a:lnTo>
                    <a:lnTo>
                      <a:pt x="793" y="3983"/>
                    </a:lnTo>
                    <a:lnTo>
                      <a:pt x="802" y="4063"/>
                    </a:lnTo>
                    <a:lnTo>
                      <a:pt x="815" y="4147"/>
                    </a:lnTo>
                    <a:lnTo>
                      <a:pt x="811" y="4226"/>
                    </a:lnTo>
                    <a:lnTo>
                      <a:pt x="842" y="4310"/>
                    </a:lnTo>
                    <a:lnTo>
                      <a:pt x="842" y="4394"/>
                    </a:lnTo>
                    <a:lnTo>
                      <a:pt x="829" y="4482"/>
                    </a:lnTo>
                    <a:lnTo>
                      <a:pt x="793" y="4574"/>
                    </a:lnTo>
                    <a:lnTo>
                      <a:pt x="754" y="4658"/>
                    </a:lnTo>
                    <a:lnTo>
                      <a:pt x="749" y="4742"/>
                    </a:lnTo>
                    <a:lnTo>
                      <a:pt x="692" y="4795"/>
                    </a:lnTo>
                    <a:lnTo>
                      <a:pt x="648" y="4892"/>
                    </a:lnTo>
                    <a:lnTo>
                      <a:pt x="573" y="4949"/>
                    </a:lnTo>
                    <a:lnTo>
                      <a:pt x="515" y="5002"/>
                    </a:lnTo>
                    <a:lnTo>
                      <a:pt x="445" y="5051"/>
                    </a:lnTo>
                    <a:lnTo>
                      <a:pt x="388" y="5134"/>
                    </a:lnTo>
                    <a:lnTo>
                      <a:pt x="339" y="5068"/>
                    </a:lnTo>
                    <a:lnTo>
                      <a:pt x="308" y="4989"/>
                    </a:lnTo>
                    <a:lnTo>
                      <a:pt x="326" y="4905"/>
                    </a:lnTo>
                    <a:lnTo>
                      <a:pt x="330" y="4821"/>
                    </a:lnTo>
                    <a:lnTo>
                      <a:pt x="379" y="4738"/>
                    </a:lnTo>
                    <a:lnTo>
                      <a:pt x="405" y="4645"/>
                    </a:lnTo>
                    <a:lnTo>
                      <a:pt x="454" y="4548"/>
                    </a:lnTo>
                    <a:lnTo>
                      <a:pt x="445" y="4455"/>
                    </a:lnTo>
                    <a:lnTo>
                      <a:pt x="414" y="4380"/>
                    </a:lnTo>
                    <a:lnTo>
                      <a:pt x="388" y="4314"/>
                    </a:lnTo>
                    <a:lnTo>
                      <a:pt x="383" y="4226"/>
                    </a:lnTo>
                    <a:lnTo>
                      <a:pt x="374" y="4142"/>
                    </a:lnTo>
                    <a:lnTo>
                      <a:pt x="352" y="4076"/>
                    </a:lnTo>
                    <a:lnTo>
                      <a:pt x="321" y="3997"/>
                    </a:lnTo>
                    <a:lnTo>
                      <a:pt x="295" y="3922"/>
                    </a:lnTo>
                    <a:lnTo>
                      <a:pt x="264" y="3846"/>
                    </a:lnTo>
                    <a:lnTo>
                      <a:pt x="238" y="3775"/>
                    </a:lnTo>
                    <a:lnTo>
                      <a:pt x="207" y="3696"/>
                    </a:lnTo>
                    <a:lnTo>
                      <a:pt x="176" y="3621"/>
                    </a:lnTo>
                    <a:lnTo>
                      <a:pt x="149" y="3546"/>
                    </a:lnTo>
                    <a:lnTo>
                      <a:pt x="123" y="3475"/>
                    </a:lnTo>
                    <a:lnTo>
                      <a:pt x="92" y="3405"/>
                    </a:lnTo>
                    <a:lnTo>
                      <a:pt x="66" y="3325"/>
                    </a:lnTo>
                    <a:lnTo>
                      <a:pt x="61" y="3246"/>
                    </a:lnTo>
                    <a:lnTo>
                      <a:pt x="35" y="3176"/>
                    </a:lnTo>
                    <a:lnTo>
                      <a:pt x="0" y="3096"/>
                    </a:lnTo>
                    <a:lnTo>
                      <a:pt x="4" y="3008"/>
                    </a:lnTo>
                    <a:lnTo>
                      <a:pt x="22" y="2924"/>
                    </a:lnTo>
                    <a:lnTo>
                      <a:pt x="17" y="2840"/>
                    </a:lnTo>
                    <a:lnTo>
                      <a:pt x="17" y="2752"/>
                    </a:lnTo>
                    <a:lnTo>
                      <a:pt x="57" y="2646"/>
                    </a:lnTo>
                    <a:lnTo>
                      <a:pt x="88" y="2554"/>
                    </a:lnTo>
                    <a:lnTo>
                      <a:pt x="132" y="2457"/>
                    </a:lnTo>
                    <a:lnTo>
                      <a:pt x="149" y="2360"/>
                    </a:lnTo>
                    <a:lnTo>
                      <a:pt x="171" y="2267"/>
                    </a:lnTo>
                    <a:lnTo>
                      <a:pt x="224" y="2188"/>
                    </a:lnTo>
                    <a:lnTo>
                      <a:pt x="246" y="2091"/>
                    </a:lnTo>
                    <a:lnTo>
                      <a:pt x="264" y="2007"/>
                    </a:lnTo>
                    <a:lnTo>
                      <a:pt x="308" y="1901"/>
                    </a:lnTo>
                    <a:lnTo>
                      <a:pt x="339" y="1813"/>
                    </a:lnTo>
                    <a:lnTo>
                      <a:pt x="330" y="1725"/>
                    </a:lnTo>
                    <a:lnTo>
                      <a:pt x="348" y="1632"/>
                    </a:lnTo>
                    <a:lnTo>
                      <a:pt x="348" y="1557"/>
                    </a:lnTo>
                    <a:lnTo>
                      <a:pt x="366" y="1456"/>
                    </a:lnTo>
                    <a:lnTo>
                      <a:pt x="366" y="1381"/>
                    </a:lnTo>
                    <a:lnTo>
                      <a:pt x="335" y="1297"/>
                    </a:lnTo>
                    <a:lnTo>
                      <a:pt x="330" y="1212"/>
                    </a:lnTo>
                    <a:lnTo>
                      <a:pt x="299" y="1137"/>
                    </a:lnTo>
                    <a:lnTo>
                      <a:pt x="273" y="1067"/>
                    </a:lnTo>
                    <a:lnTo>
                      <a:pt x="273" y="983"/>
                    </a:lnTo>
                    <a:lnTo>
                      <a:pt x="246" y="908"/>
                    </a:lnTo>
                    <a:lnTo>
                      <a:pt x="238" y="820"/>
                    </a:lnTo>
                    <a:lnTo>
                      <a:pt x="229" y="740"/>
                    </a:lnTo>
                    <a:lnTo>
                      <a:pt x="207" y="661"/>
                    </a:lnTo>
                    <a:lnTo>
                      <a:pt x="198" y="582"/>
                    </a:lnTo>
                    <a:lnTo>
                      <a:pt x="1936" y="0"/>
                    </a:lnTo>
                    <a:close/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043600" y="4010040"/>
                <a:ext cx="1209960" cy="1697400"/>
              </a:xfrm>
              <a:custGeom>
                <a:avLst/>
                <a:gdLst/>
                <a:ahLst/>
                <a:rect l="0" t="0" r="r" b="b"/>
                <a:pathLst>
                  <a:path w="3361" h="4715">
                    <a:moveTo>
                      <a:pt x="811" y="0"/>
                    </a:moveTo>
                    <a:lnTo>
                      <a:pt x="868" y="74"/>
                    </a:lnTo>
                    <a:lnTo>
                      <a:pt x="926" y="132"/>
                    </a:lnTo>
                    <a:lnTo>
                      <a:pt x="1001" y="167"/>
                    </a:lnTo>
                    <a:lnTo>
                      <a:pt x="1071" y="202"/>
                    </a:lnTo>
                    <a:lnTo>
                      <a:pt x="1137" y="260"/>
                    </a:lnTo>
                    <a:lnTo>
                      <a:pt x="1195" y="313"/>
                    </a:lnTo>
                    <a:lnTo>
                      <a:pt x="1265" y="343"/>
                    </a:lnTo>
                    <a:lnTo>
                      <a:pt x="1318" y="432"/>
                    </a:lnTo>
                    <a:lnTo>
                      <a:pt x="1384" y="480"/>
                    </a:lnTo>
                    <a:lnTo>
                      <a:pt x="1441" y="537"/>
                    </a:lnTo>
                    <a:lnTo>
                      <a:pt x="1508" y="595"/>
                    </a:lnTo>
                    <a:lnTo>
                      <a:pt x="1552" y="679"/>
                    </a:lnTo>
                    <a:lnTo>
                      <a:pt x="1605" y="754"/>
                    </a:lnTo>
                    <a:lnTo>
                      <a:pt x="1618" y="851"/>
                    </a:lnTo>
                    <a:lnTo>
                      <a:pt x="1675" y="926"/>
                    </a:lnTo>
                    <a:lnTo>
                      <a:pt x="1725" y="1009"/>
                    </a:lnTo>
                    <a:lnTo>
                      <a:pt x="1778" y="1089"/>
                    </a:lnTo>
                    <a:lnTo>
                      <a:pt x="1764" y="1172"/>
                    </a:lnTo>
                    <a:lnTo>
                      <a:pt x="1764" y="1262"/>
                    </a:lnTo>
                    <a:lnTo>
                      <a:pt x="1751" y="1345"/>
                    </a:lnTo>
                    <a:lnTo>
                      <a:pt x="1747" y="1425"/>
                    </a:lnTo>
                    <a:lnTo>
                      <a:pt x="1734" y="1509"/>
                    </a:lnTo>
                    <a:lnTo>
                      <a:pt x="1734" y="1592"/>
                    </a:lnTo>
                    <a:lnTo>
                      <a:pt x="1720" y="1681"/>
                    </a:lnTo>
                    <a:lnTo>
                      <a:pt x="1716" y="1756"/>
                    </a:lnTo>
                    <a:lnTo>
                      <a:pt x="1703" y="1844"/>
                    </a:lnTo>
                    <a:lnTo>
                      <a:pt x="1671" y="1914"/>
                    </a:lnTo>
                    <a:lnTo>
                      <a:pt x="1694" y="2007"/>
                    </a:lnTo>
                    <a:lnTo>
                      <a:pt x="1703" y="2100"/>
                    </a:lnTo>
                    <a:lnTo>
                      <a:pt x="1742" y="2205"/>
                    </a:lnTo>
                    <a:lnTo>
                      <a:pt x="1729" y="2289"/>
                    </a:lnTo>
                    <a:lnTo>
                      <a:pt x="1778" y="2391"/>
                    </a:lnTo>
                    <a:lnTo>
                      <a:pt x="1791" y="2488"/>
                    </a:lnTo>
                    <a:lnTo>
                      <a:pt x="1839" y="2571"/>
                    </a:lnTo>
                    <a:lnTo>
                      <a:pt x="1861" y="2660"/>
                    </a:lnTo>
                    <a:lnTo>
                      <a:pt x="1910" y="2743"/>
                    </a:lnTo>
                    <a:lnTo>
                      <a:pt x="1932" y="2836"/>
                    </a:lnTo>
                    <a:lnTo>
                      <a:pt x="1967" y="2942"/>
                    </a:lnTo>
                    <a:lnTo>
                      <a:pt x="2016" y="3021"/>
                    </a:lnTo>
                    <a:lnTo>
                      <a:pt x="2077" y="3078"/>
                    </a:lnTo>
                    <a:lnTo>
                      <a:pt x="2130" y="3158"/>
                    </a:lnTo>
                    <a:lnTo>
                      <a:pt x="2188" y="3215"/>
                    </a:lnTo>
                    <a:lnTo>
                      <a:pt x="2236" y="3299"/>
                    </a:lnTo>
                    <a:lnTo>
                      <a:pt x="2320" y="3325"/>
                    </a:lnTo>
                    <a:lnTo>
                      <a:pt x="2391" y="3361"/>
                    </a:lnTo>
                    <a:lnTo>
                      <a:pt x="2488" y="3405"/>
                    </a:lnTo>
                    <a:lnTo>
                      <a:pt x="2554" y="3436"/>
                    </a:lnTo>
                    <a:lnTo>
                      <a:pt x="2624" y="3471"/>
                    </a:lnTo>
                    <a:lnTo>
                      <a:pt x="2704" y="3497"/>
                    </a:lnTo>
                    <a:lnTo>
                      <a:pt x="2765" y="3556"/>
                    </a:lnTo>
                    <a:lnTo>
                      <a:pt x="2823" y="3617"/>
                    </a:lnTo>
                    <a:lnTo>
                      <a:pt x="2884" y="3670"/>
                    </a:lnTo>
                    <a:lnTo>
                      <a:pt x="2951" y="3728"/>
                    </a:lnTo>
                    <a:lnTo>
                      <a:pt x="3008" y="3785"/>
                    </a:lnTo>
                    <a:lnTo>
                      <a:pt x="3087" y="3812"/>
                    </a:lnTo>
                    <a:lnTo>
                      <a:pt x="3145" y="3873"/>
                    </a:lnTo>
                    <a:lnTo>
                      <a:pt x="3198" y="3953"/>
                    </a:lnTo>
                    <a:lnTo>
                      <a:pt x="3246" y="4036"/>
                    </a:lnTo>
                    <a:lnTo>
                      <a:pt x="3264" y="4125"/>
                    </a:lnTo>
                    <a:lnTo>
                      <a:pt x="3325" y="4195"/>
                    </a:lnTo>
                    <a:lnTo>
                      <a:pt x="3317" y="4266"/>
                    </a:lnTo>
                    <a:lnTo>
                      <a:pt x="3361" y="4372"/>
                    </a:lnTo>
                    <a:lnTo>
                      <a:pt x="3343" y="4455"/>
                    </a:lnTo>
                    <a:lnTo>
                      <a:pt x="3343" y="4535"/>
                    </a:lnTo>
                    <a:lnTo>
                      <a:pt x="3330" y="4623"/>
                    </a:lnTo>
                    <a:lnTo>
                      <a:pt x="3343" y="4715"/>
                    </a:lnTo>
                    <a:lnTo>
                      <a:pt x="3264" y="4711"/>
                    </a:lnTo>
                    <a:lnTo>
                      <a:pt x="3189" y="4676"/>
                    </a:lnTo>
                    <a:lnTo>
                      <a:pt x="3140" y="4605"/>
                    </a:lnTo>
                    <a:lnTo>
                      <a:pt x="3083" y="4535"/>
                    </a:lnTo>
                    <a:lnTo>
                      <a:pt x="3065" y="4447"/>
                    </a:lnTo>
                    <a:lnTo>
                      <a:pt x="3017" y="4363"/>
                    </a:lnTo>
                    <a:lnTo>
                      <a:pt x="2977" y="4261"/>
                    </a:lnTo>
                    <a:lnTo>
                      <a:pt x="2907" y="4204"/>
                    </a:lnTo>
                    <a:lnTo>
                      <a:pt x="2836" y="4173"/>
                    </a:lnTo>
                    <a:lnTo>
                      <a:pt x="2770" y="4138"/>
                    </a:lnTo>
                    <a:lnTo>
                      <a:pt x="2704" y="4085"/>
                    </a:lnTo>
                    <a:lnTo>
                      <a:pt x="2638" y="4028"/>
                    </a:lnTo>
                    <a:lnTo>
                      <a:pt x="2576" y="3997"/>
                    </a:lnTo>
                    <a:lnTo>
                      <a:pt x="2496" y="3961"/>
                    </a:lnTo>
                    <a:lnTo>
                      <a:pt x="2421" y="3931"/>
                    </a:lnTo>
                    <a:lnTo>
                      <a:pt x="2351" y="3895"/>
                    </a:lnTo>
                    <a:lnTo>
                      <a:pt x="2280" y="3873"/>
                    </a:lnTo>
                    <a:lnTo>
                      <a:pt x="2205" y="3834"/>
                    </a:lnTo>
                    <a:lnTo>
                      <a:pt x="2130" y="3798"/>
                    </a:lnTo>
                    <a:lnTo>
                      <a:pt x="2060" y="3767"/>
                    </a:lnTo>
                    <a:lnTo>
                      <a:pt x="1989" y="3741"/>
                    </a:lnTo>
                    <a:lnTo>
                      <a:pt x="1914" y="3706"/>
                    </a:lnTo>
                    <a:lnTo>
                      <a:pt x="1844" y="3670"/>
                    </a:lnTo>
                    <a:lnTo>
                      <a:pt x="1782" y="3617"/>
                    </a:lnTo>
                    <a:lnTo>
                      <a:pt x="1711" y="3587"/>
                    </a:lnTo>
                    <a:lnTo>
                      <a:pt x="1631" y="3551"/>
                    </a:lnTo>
                    <a:lnTo>
                      <a:pt x="1574" y="3493"/>
                    </a:lnTo>
                    <a:lnTo>
                      <a:pt x="1530" y="3414"/>
                    </a:lnTo>
                    <a:lnTo>
                      <a:pt x="1464" y="3365"/>
                    </a:lnTo>
                    <a:lnTo>
                      <a:pt x="1397" y="3299"/>
                    </a:lnTo>
                    <a:lnTo>
                      <a:pt x="1358" y="3198"/>
                    </a:lnTo>
                    <a:lnTo>
                      <a:pt x="1309" y="3114"/>
                    </a:lnTo>
                    <a:lnTo>
                      <a:pt x="1274" y="3004"/>
                    </a:lnTo>
                    <a:lnTo>
                      <a:pt x="1217" y="2929"/>
                    </a:lnTo>
                    <a:lnTo>
                      <a:pt x="1168" y="2845"/>
                    </a:lnTo>
                    <a:lnTo>
                      <a:pt x="1146" y="2752"/>
                    </a:lnTo>
                    <a:lnTo>
                      <a:pt x="1098" y="2673"/>
                    </a:lnTo>
                    <a:lnTo>
                      <a:pt x="1049" y="2598"/>
                    </a:lnTo>
                    <a:lnTo>
                      <a:pt x="1005" y="2492"/>
                    </a:lnTo>
                    <a:lnTo>
                      <a:pt x="961" y="2408"/>
                    </a:lnTo>
                    <a:lnTo>
                      <a:pt x="895" y="2351"/>
                    </a:lnTo>
                    <a:lnTo>
                      <a:pt x="842" y="2276"/>
                    </a:lnTo>
                    <a:lnTo>
                      <a:pt x="784" y="2223"/>
                    </a:lnTo>
                    <a:lnTo>
                      <a:pt x="732" y="2135"/>
                    </a:lnTo>
                    <a:lnTo>
                      <a:pt x="674" y="2077"/>
                    </a:lnTo>
                    <a:lnTo>
                      <a:pt x="595" y="2042"/>
                    </a:lnTo>
                    <a:lnTo>
                      <a:pt x="533" y="1989"/>
                    </a:lnTo>
                    <a:lnTo>
                      <a:pt x="463" y="1958"/>
                    </a:lnTo>
                    <a:lnTo>
                      <a:pt x="388" y="1932"/>
                    </a:lnTo>
                    <a:lnTo>
                      <a:pt x="335" y="1861"/>
                    </a:lnTo>
                    <a:lnTo>
                      <a:pt x="260" y="1831"/>
                    </a:lnTo>
                    <a:lnTo>
                      <a:pt x="194" y="1778"/>
                    </a:lnTo>
                    <a:lnTo>
                      <a:pt x="136" y="1725"/>
                    </a:lnTo>
                    <a:lnTo>
                      <a:pt x="57" y="1689"/>
                    </a:lnTo>
                    <a:lnTo>
                      <a:pt x="0" y="1632"/>
                    </a:lnTo>
                    <a:lnTo>
                      <a:pt x="811" y="0"/>
                    </a:lnTo>
                    <a:close/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09640" y="3054240"/>
                <a:ext cx="1846800" cy="722520"/>
              </a:xfrm>
              <a:custGeom>
                <a:avLst/>
                <a:gdLst/>
                <a:ahLst/>
                <a:rect l="0" t="0" r="r" b="b"/>
                <a:pathLst>
                  <a:path w="5130" h="2007">
                    <a:moveTo>
                      <a:pt x="5130" y="1932"/>
                    </a:moveTo>
                    <a:lnTo>
                      <a:pt x="5033" y="1914"/>
                    </a:lnTo>
                    <a:lnTo>
                      <a:pt x="4954" y="1914"/>
                    </a:lnTo>
                    <a:lnTo>
                      <a:pt x="4879" y="1941"/>
                    </a:lnTo>
                    <a:lnTo>
                      <a:pt x="4795" y="1976"/>
                    </a:lnTo>
                    <a:lnTo>
                      <a:pt x="4715" y="1980"/>
                    </a:lnTo>
                    <a:lnTo>
                      <a:pt x="4641" y="1980"/>
                    </a:lnTo>
                    <a:lnTo>
                      <a:pt x="4561" y="2007"/>
                    </a:lnTo>
                    <a:lnTo>
                      <a:pt x="4469" y="1985"/>
                    </a:lnTo>
                    <a:lnTo>
                      <a:pt x="4380" y="1994"/>
                    </a:lnTo>
                    <a:lnTo>
                      <a:pt x="4305" y="1994"/>
                    </a:lnTo>
                    <a:lnTo>
                      <a:pt x="4213" y="2003"/>
                    </a:lnTo>
                    <a:lnTo>
                      <a:pt x="4125" y="1976"/>
                    </a:lnTo>
                    <a:lnTo>
                      <a:pt x="4036" y="1958"/>
                    </a:lnTo>
                    <a:lnTo>
                      <a:pt x="3957" y="1901"/>
                    </a:lnTo>
                    <a:lnTo>
                      <a:pt x="3864" y="1883"/>
                    </a:lnTo>
                    <a:lnTo>
                      <a:pt x="3766" y="1861"/>
                    </a:lnTo>
                    <a:lnTo>
                      <a:pt x="3669" y="1844"/>
                    </a:lnTo>
                    <a:lnTo>
                      <a:pt x="3625" y="1773"/>
                    </a:lnTo>
                    <a:lnTo>
                      <a:pt x="3559" y="1711"/>
                    </a:lnTo>
                    <a:lnTo>
                      <a:pt x="3506" y="1645"/>
                    </a:lnTo>
                    <a:lnTo>
                      <a:pt x="3458" y="1584"/>
                    </a:lnTo>
                    <a:lnTo>
                      <a:pt x="3414" y="1517"/>
                    </a:lnTo>
                    <a:lnTo>
                      <a:pt x="3347" y="1451"/>
                    </a:lnTo>
                    <a:lnTo>
                      <a:pt x="3303" y="1381"/>
                    </a:lnTo>
                    <a:lnTo>
                      <a:pt x="3246" y="1328"/>
                    </a:lnTo>
                    <a:lnTo>
                      <a:pt x="3202" y="1257"/>
                    </a:lnTo>
                    <a:lnTo>
                      <a:pt x="3171" y="1182"/>
                    </a:lnTo>
                    <a:lnTo>
                      <a:pt x="3087" y="1129"/>
                    </a:lnTo>
                    <a:lnTo>
                      <a:pt x="3012" y="1076"/>
                    </a:lnTo>
                    <a:lnTo>
                      <a:pt x="2911" y="1028"/>
                    </a:lnTo>
                    <a:lnTo>
                      <a:pt x="2858" y="956"/>
                    </a:lnTo>
                    <a:lnTo>
                      <a:pt x="2748" y="921"/>
                    </a:lnTo>
                    <a:lnTo>
                      <a:pt x="2677" y="859"/>
                    </a:lnTo>
                    <a:lnTo>
                      <a:pt x="2585" y="837"/>
                    </a:lnTo>
                    <a:lnTo>
                      <a:pt x="2505" y="789"/>
                    </a:lnTo>
                    <a:lnTo>
                      <a:pt x="2413" y="758"/>
                    </a:lnTo>
                    <a:lnTo>
                      <a:pt x="2329" y="718"/>
                    </a:lnTo>
                    <a:lnTo>
                      <a:pt x="2232" y="665"/>
                    </a:lnTo>
                    <a:lnTo>
                      <a:pt x="2139" y="639"/>
                    </a:lnTo>
                    <a:lnTo>
                      <a:pt x="2055" y="648"/>
                    </a:lnTo>
                    <a:lnTo>
                      <a:pt x="1963" y="626"/>
                    </a:lnTo>
                    <a:lnTo>
                      <a:pt x="1879" y="626"/>
                    </a:lnTo>
                    <a:lnTo>
                      <a:pt x="1786" y="608"/>
                    </a:lnTo>
                    <a:lnTo>
                      <a:pt x="1707" y="648"/>
                    </a:lnTo>
                    <a:lnTo>
                      <a:pt x="1637" y="674"/>
                    </a:lnTo>
                    <a:lnTo>
                      <a:pt x="1539" y="709"/>
                    </a:lnTo>
                    <a:lnTo>
                      <a:pt x="1469" y="732"/>
                    </a:lnTo>
                    <a:lnTo>
                      <a:pt x="1394" y="758"/>
                    </a:lnTo>
                    <a:lnTo>
                      <a:pt x="1310" y="798"/>
                    </a:lnTo>
                    <a:lnTo>
                      <a:pt x="1230" y="793"/>
                    </a:lnTo>
                    <a:lnTo>
                      <a:pt x="1150" y="793"/>
                    </a:lnTo>
                    <a:lnTo>
                      <a:pt x="1062" y="798"/>
                    </a:lnTo>
                    <a:lnTo>
                      <a:pt x="983" y="811"/>
                    </a:lnTo>
                    <a:lnTo>
                      <a:pt x="899" y="806"/>
                    </a:lnTo>
                    <a:lnTo>
                      <a:pt x="815" y="837"/>
                    </a:lnTo>
                    <a:lnTo>
                      <a:pt x="740" y="837"/>
                    </a:lnTo>
                    <a:lnTo>
                      <a:pt x="648" y="824"/>
                    </a:lnTo>
                    <a:lnTo>
                      <a:pt x="555" y="793"/>
                    </a:lnTo>
                    <a:lnTo>
                      <a:pt x="467" y="745"/>
                    </a:lnTo>
                    <a:lnTo>
                      <a:pt x="388" y="745"/>
                    </a:lnTo>
                    <a:lnTo>
                      <a:pt x="330" y="683"/>
                    </a:lnTo>
                    <a:lnTo>
                      <a:pt x="233" y="643"/>
                    </a:lnTo>
                    <a:lnTo>
                      <a:pt x="180" y="568"/>
                    </a:lnTo>
                    <a:lnTo>
                      <a:pt x="123" y="511"/>
                    </a:lnTo>
                    <a:lnTo>
                      <a:pt x="79" y="440"/>
                    </a:lnTo>
                    <a:lnTo>
                      <a:pt x="0" y="388"/>
                    </a:lnTo>
                    <a:lnTo>
                      <a:pt x="66" y="335"/>
                    </a:lnTo>
                    <a:lnTo>
                      <a:pt x="141" y="304"/>
                    </a:lnTo>
                    <a:lnTo>
                      <a:pt x="229" y="326"/>
                    </a:lnTo>
                    <a:lnTo>
                      <a:pt x="308" y="326"/>
                    </a:lnTo>
                    <a:lnTo>
                      <a:pt x="396" y="374"/>
                    </a:lnTo>
                    <a:lnTo>
                      <a:pt x="485" y="396"/>
                    </a:lnTo>
                    <a:lnTo>
                      <a:pt x="582" y="449"/>
                    </a:lnTo>
                    <a:lnTo>
                      <a:pt x="674" y="440"/>
                    </a:lnTo>
                    <a:lnTo>
                      <a:pt x="749" y="410"/>
                    </a:lnTo>
                    <a:lnTo>
                      <a:pt x="820" y="383"/>
                    </a:lnTo>
                    <a:lnTo>
                      <a:pt x="903" y="379"/>
                    </a:lnTo>
                    <a:lnTo>
                      <a:pt x="987" y="374"/>
                    </a:lnTo>
                    <a:lnTo>
                      <a:pt x="1053" y="348"/>
                    </a:lnTo>
                    <a:lnTo>
                      <a:pt x="1133" y="317"/>
                    </a:lnTo>
                    <a:lnTo>
                      <a:pt x="1208" y="286"/>
                    </a:lnTo>
                    <a:lnTo>
                      <a:pt x="1288" y="260"/>
                    </a:lnTo>
                    <a:lnTo>
                      <a:pt x="1359" y="229"/>
                    </a:lnTo>
                    <a:lnTo>
                      <a:pt x="1434" y="207"/>
                    </a:lnTo>
                    <a:lnTo>
                      <a:pt x="1504" y="176"/>
                    </a:lnTo>
                    <a:lnTo>
                      <a:pt x="1584" y="145"/>
                    </a:lnTo>
                    <a:lnTo>
                      <a:pt x="1650" y="119"/>
                    </a:lnTo>
                    <a:lnTo>
                      <a:pt x="1729" y="88"/>
                    </a:lnTo>
                    <a:lnTo>
                      <a:pt x="1804" y="61"/>
                    </a:lnTo>
                    <a:lnTo>
                      <a:pt x="1883" y="57"/>
                    </a:lnTo>
                    <a:lnTo>
                      <a:pt x="1954" y="30"/>
                    </a:lnTo>
                    <a:lnTo>
                      <a:pt x="2033" y="0"/>
                    </a:lnTo>
                    <a:lnTo>
                      <a:pt x="2122" y="0"/>
                    </a:lnTo>
                    <a:lnTo>
                      <a:pt x="2201" y="22"/>
                    </a:lnTo>
                    <a:lnTo>
                      <a:pt x="2289" y="17"/>
                    </a:lnTo>
                    <a:lnTo>
                      <a:pt x="2382" y="17"/>
                    </a:lnTo>
                    <a:lnTo>
                      <a:pt x="2483" y="57"/>
                    </a:lnTo>
                    <a:lnTo>
                      <a:pt x="2576" y="88"/>
                    </a:lnTo>
                    <a:lnTo>
                      <a:pt x="2673" y="127"/>
                    </a:lnTo>
                    <a:lnTo>
                      <a:pt x="2770" y="141"/>
                    </a:lnTo>
                    <a:lnTo>
                      <a:pt x="2858" y="171"/>
                    </a:lnTo>
                    <a:lnTo>
                      <a:pt x="2937" y="216"/>
                    </a:lnTo>
                    <a:lnTo>
                      <a:pt x="3034" y="242"/>
                    </a:lnTo>
                    <a:lnTo>
                      <a:pt x="3127" y="264"/>
                    </a:lnTo>
                    <a:lnTo>
                      <a:pt x="3233" y="308"/>
                    </a:lnTo>
                    <a:lnTo>
                      <a:pt x="3321" y="335"/>
                    </a:lnTo>
                    <a:lnTo>
                      <a:pt x="3409" y="326"/>
                    </a:lnTo>
                    <a:lnTo>
                      <a:pt x="3493" y="343"/>
                    </a:lnTo>
                    <a:lnTo>
                      <a:pt x="3577" y="343"/>
                    </a:lnTo>
                    <a:lnTo>
                      <a:pt x="3678" y="366"/>
                    </a:lnTo>
                    <a:lnTo>
                      <a:pt x="3753" y="361"/>
                    </a:lnTo>
                    <a:lnTo>
                      <a:pt x="3833" y="330"/>
                    </a:lnTo>
                    <a:lnTo>
                      <a:pt x="3917" y="326"/>
                    </a:lnTo>
                    <a:lnTo>
                      <a:pt x="3992" y="295"/>
                    </a:lnTo>
                    <a:lnTo>
                      <a:pt x="4063" y="268"/>
                    </a:lnTo>
                    <a:lnTo>
                      <a:pt x="4142" y="273"/>
                    </a:lnTo>
                    <a:lnTo>
                      <a:pt x="4217" y="242"/>
                    </a:lnTo>
                    <a:lnTo>
                      <a:pt x="4310" y="233"/>
                    </a:lnTo>
                    <a:lnTo>
                      <a:pt x="4385" y="224"/>
                    </a:lnTo>
                    <a:lnTo>
                      <a:pt x="4464" y="202"/>
                    </a:lnTo>
                    <a:lnTo>
                      <a:pt x="4548" y="198"/>
                    </a:lnTo>
                    <a:lnTo>
                      <a:pt x="5130" y="1932"/>
                    </a:lnTo>
                    <a:close/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125960" y="765000"/>
                <a:ext cx="724320" cy="1848240"/>
              </a:xfrm>
              <a:custGeom>
                <a:avLst/>
                <a:gdLst/>
                <a:ahLst/>
                <a:rect l="0" t="0" r="r" b="b"/>
                <a:pathLst>
                  <a:path w="2012" h="5134">
                    <a:moveTo>
                      <a:pt x="79" y="5134"/>
                    </a:moveTo>
                    <a:lnTo>
                      <a:pt x="92" y="5037"/>
                    </a:lnTo>
                    <a:lnTo>
                      <a:pt x="97" y="4958"/>
                    </a:lnTo>
                    <a:lnTo>
                      <a:pt x="66" y="4879"/>
                    </a:lnTo>
                    <a:lnTo>
                      <a:pt x="39" y="4804"/>
                    </a:lnTo>
                    <a:lnTo>
                      <a:pt x="35" y="4720"/>
                    </a:lnTo>
                    <a:lnTo>
                      <a:pt x="30" y="4641"/>
                    </a:lnTo>
                    <a:lnTo>
                      <a:pt x="0" y="4566"/>
                    </a:lnTo>
                    <a:lnTo>
                      <a:pt x="22" y="4469"/>
                    </a:lnTo>
                    <a:lnTo>
                      <a:pt x="17" y="4389"/>
                    </a:lnTo>
                    <a:lnTo>
                      <a:pt x="17" y="4305"/>
                    </a:lnTo>
                    <a:lnTo>
                      <a:pt x="8" y="4226"/>
                    </a:lnTo>
                    <a:lnTo>
                      <a:pt x="35" y="4129"/>
                    </a:lnTo>
                    <a:lnTo>
                      <a:pt x="52" y="4036"/>
                    </a:lnTo>
                    <a:lnTo>
                      <a:pt x="110" y="3957"/>
                    </a:lnTo>
                    <a:lnTo>
                      <a:pt x="123" y="3864"/>
                    </a:lnTo>
                    <a:lnTo>
                      <a:pt x="154" y="3775"/>
                    </a:lnTo>
                    <a:lnTo>
                      <a:pt x="167" y="3683"/>
                    </a:lnTo>
                    <a:lnTo>
                      <a:pt x="233" y="3625"/>
                    </a:lnTo>
                    <a:lnTo>
                      <a:pt x="299" y="3572"/>
                    </a:lnTo>
                    <a:lnTo>
                      <a:pt x="366" y="3515"/>
                    </a:lnTo>
                    <a:lnTo>
                      <a:pt x="427" y="3471"/>
                    </a:lnTo>
                    <a:lnTo>
                      <a:pt x="493" y="3414"/>
                    </a:lnTo>
                    <a:lnTo>
                      <a:pt x="561" y="3356"/>
                    </a:lnTo>
                    <a:lnTo>
                      <a:pt x="627" y="3303"/>
                    </a:lnTo>
                    <a:lnTo>
                      <a:pt x="688" y="3250"/>
                    </a:lnTo>
                    <a:lnTo>
                      <a:pt x="755" y="3202"/>
                    </a:lnTo>
                    <a:lnTo>
                      <a:pt x="830" y="3171"/>
                    </a:lnTo>
                    <a:lnTo>
                      <a:pt x="878" y="3096"/>
                    </a:lnTo>
                    <a:lnTo>
                      <a:pt x="935" y="3021"/>
                    </a:lnTo>
                    <a:lnTo>
                      <a:pt x="984" y="2915"/>
                    </a:lnTo>
                    <a:lnTo>
                      <a:pt x="1050" y="2858"/>
                    </a:lnTo>
                    <a:lnTo>
                      <a:pt x="1094" y="2757"/>
                    </a:lnTo>
                    <a:lnTo>
                      <a:pt x="1147" y="2682"/>
                    </a:lnTo>
                    <a:lnTo>
                      <a:pt x="1173" y="2585"/>
                    </a:lnTo>
                    <a:lnTo>
                      <a:pt x="1222" y="2505"/>
                    </a:lnTo>
                    <a:lnTo>
                      <a:pt x="1248" y="2417"/>
                    </a:lnTo>
                    <a:lnTo>
                      <a:pt x="1297" y="2338"/>
                    </a:lnTo>
                    <a:lnTo>
                      <a:pt x="1341" y="2232"/>
                    </a:lnTo>
                    <a:lnTo>
                      <a:pt x="1372" y="2144"/>
                    </a:lnTo>
                    <a:lnTo>
                      <a:pt x="1363" y="2060"/>
                    </a:lnTo>
                    <a:lnTo>
                      <a:pt x="1381" y="1967"/>
                    </a:lnTo>
                    <a:lnTo>
                      <a:pt x="1381" y="1883"/>
                    </a:lnTo>
                    <a:lnTo>
                      <a:pt x="1403" y="1791"/>
                    </a:lnTo>
                    <a:lnTo>
                      <a:pt x="1372" y="1711"/>
                    </a:lnTo>
                    <a:lnTo>
                      <a:pt x="1341" y="1641"/>
                    </a:lnTo>
                    <a:lnTo>
                      <a:pt x="1306" y="1539"/>
                    </a:lnTo>
                    <a:lnTo>
                      <a:pt x="1279" y="1469"/>
                    </a:lnTo>
                    <a:lnTo>
                      <a:pt x="1248" y="1394"/>
                    </a:lnTo>
                    <a:lnTo>
                      <a:pt x="1222" y="1319"/>
                    </a:lnTo>
                    <a:lnTo>
                      <a:pt x="1218" y="1234"/>
                    </a:lnTo>
                    <a:lnTo>
                      <a:pt x="1218" y="1150"/>
                    </a:lnTo>
                    <a:lnTo>
                      <a:pt x="1209" y="1071"/>
                    </a:lnTo>
                    <a:lnTo>
                      <a:pt x="1204" y="983"/>
                    </a:lnTo>
                    <a:lnTo>
                      <a:pt x="1204" y="908"/>
                    </a:lnTo>
                    <a:lnTo>
                      <a:pt x="1173" y="829"/>
                    </a:lnTo>
                    <a:lnTo>
                      <a:pt x="1169" y="740"/>
                    </a:lnTo>
                    <a:lnTo>
                      <a:pt x="1191" y="648"/>
                    </a:lnTo>
                    <a:lnTo>
                      <a:pt x="1218" y="560"/>
                    </a:lnTo>
                    <a:lnTo>
                      <a:pt x="1266" y="480"/>
                    </a:lnTo>
                    <a:lnTo>
                      <a:pt x="1266" y="392"/>
                    </a:lnTo>
                    <a:lnTo>
                      <a:pt x="1328" y="343"/>
                    </a:lnTo>
                    <a:lnTo>
                      <a:pt x="1372" y="238"/>
                    </a:lnTo>
                    <a:lnTo>
                      <a:pt x="1438" y="185"/>
                    </a:lnTo>
                    <a:lnTo>
                      <a:pt x="1500" y="136"/>
                    </a:lnTo>
                    <a:lnTo>
                      <a:pt x="1571" y="83"/>
                    </a:lnTo>
                    <a:lnTo>
                      <a:pt x="1624" y="0"/>
                    </a:lnTo>
                    <a:lnTo>
                      <a:pt x="1677" y="66"/>
                    </a:lnTo>
                    <a:lnTo>
                      <a:pt x="1708" y="141"/>
                    </a:lnTo>
                    <a:lnTo>
                      <a:pt x="1686" y="229"/>
                    </a:lnTo>
                    <a:lnTo>
                      <a:pt x="1686" y="317"/>
                    </a:lnTo>
                    <a:lnTo>
                      <a:pt x="1638" y="396"/>
                    </a:lnTo>
                    <a:lnTo>
                      <a:pt x="1611" y="485"/>
                    </a:lnTo>
                    <a:lnTo>
                      <a:pt x="1567" y="590"/>
                    </a:lnTo>
                    <a:lnTo>
                      <a:pt x="1571" y="679"/>
                    </a:lnTo>
                    <a:lnTo>
                      <a:pt x="1602" y="749"/>
                    </a:lnTo>
                    <a:lnTo>
                      <a:pt x="1629" y="820"/>
                    </a:lnTo>
                    <a:lnTo>
                      <a:pt x="1633" y="908"/>
                    </a:lnTo>
                    <a:lnTo>
                      <a:pt x="1638" y="992"/>
                    </a:lnTo>
                    <a:lnTo>
                      <a:pt x="1664" y="1058"/>
                    </a:lnTo>
                    <a:lnTo>
                      <a:pt x="1695" y="1137"/>
                    </a:lnTo>
                    <a:lnTo>
                      <a:pt x="1721" y="1212"/>
                    </a:lnTo>
                    <a:lnTo>
                      <a:pt x="1752" y="1288"/>
                    </a:lnTo>
                    <a:lnTo>
                      <a:pt x="1779" y="1359"/>
                    </a:lnTo>
                    <a:lnTo>
                      <a:pt x="1809" y="1434"/>
                    </a:lnTo>
                    <a:lnTo>
                      <a:pt x="1836" y="1513"/>
                    </a:lnTo>
                    <a:lnTo>
                      <a:pt x="1862" y="1588"/>
                    </a:lnTo>
                    <a:lnTo>
                      <a:pt x="1889" y="1659"/>
                    </a:lnTo>
                    <a:lnTo>
                      <a:pt x="1920" y="1729"/>
                    </a:lnTo>
                    <a:lnTo>
                      <a:pt x="1951" y="1804"/>
                    </a:lnTo>
                    <a:lnTo>
                      <a:pt x="1951" y="1888"/>
                    </a:lnTo>
                    <a:lnTo>
                      <a:pt x="1981" y="1963"/>
                    </a:lnTo>
                    <a:lnTo>
                      <a:pt x="2012" y="2038"/>
                    </a:lnTo>
                    <a:lnTo>
                      <a:pt x="2008" y="2126"/>
                    </a:lnTo>
                    <a:lnTo>
                      <a:pt x="1990" y="2210"/>
                    </a:lnTo>
                    <a:lnTo>
                      <a:pt x="1995" y="2298"/>
                    </a:lnTo>
                    <a:lnTo>
                      <a:pt x="1999" y="2382"/>
                    </a:lnTo>
                    <a:lnTo>
                      <a:pt x="1955" y="2483"/>
                    </a:lnTo>
                    <a:lnTo>
                      <a:pt x="1929" y="2576"/>
                    </a:lnTo>
                    <a:lnTo>
                      <a:pt x="1884" y="2682"/>
                    </a:lnTo>
                    <a:lnTo>
                      <a:pt x="1867" y="2774"/>
                    </a:lnTo>
                    <a:lnTo>
                      <a:pt x="1845" y="2867"/>
                    </a:lnTo>
                    <a:lnTo>
                      <a:pt x="1792" y="2946"/>
                    </a:lnTo>
                    <a:lnTo>
                      <a:pt x="1765" y="3039"/>
                    </a:lnTo>
                    <a:lnTo>
                      <a:pt x="1748" y="3127"/>
                    </a:lnTo>
                    <a:lnTo>
                      <a:pt x="1704" y="3233"/>
                    </a:lnTo>
                    <a:lnTo>
                      <a:pt x="1682" y="3330"/>
                    </a:lnTo>
                    <a:lnTo>
                      <a:pt x="1686" y="3409"/>
                    </a:lnTo>
                    <a:lnTo>
                      <a:pt x="1668" y="3502"/>
                    </a:lnTo>
                    <a:lnTo>
                      <a:pt x="1673" y="3586"/>
                    </a:lnTo>
                    <a:lnTo>
                      <a:pt x="1646" y="3678"/>
                    </a:lnTo>
                    <a:lnTo>
                      <a:pt x="1651" y="3758"/>
                    </a:lnTo>
                    <a:lnTo>
                      <a:pt x="1682" y="3837"/>
                    </a:lnTo>
                    <a:lnTo>
                      <a:pt x="1686" y="3917"/>
                    </a:lnTo>
                    <a:lnTo>
                      <a:pt x="1717" y="3997"/>
                    </a:lnTo>
                    <a:lnTo>
                      <a:pt x="1743" y="4067"/>
                    </a:lnTo>
                    <a:lnTo>
                      <a:pt x="1739" y="4155"/>
                    </a:lnTo>
                    <a:lnTo>
                      <a:pt x="1770" y="4230"/>
                    </a:lnTo>
                    <a:lnTo>
                      <a:pt x="1774" y="4314"/>
                    </a:lnTo>
                    <a:lnTo>
                      <a:pt x="1779" y="4394"/>
                    </a:lnTo>
                    <a:lnTo>
                      <a:pt x="1805" y="4469"/>
                    </a:lnTo>
                    <a:lnTo>
                      <a:pt x="1818" y="4552"/>
                    </a:lnTo>
                    <a:lnTo>
                      <a:pt x="79" y="5134"/>
                    </a:lnTo>
                    <a:close/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612880" y="1231920"/>
                <a:ext cx="1211760" cy="1698840"/>
              </a:xfrm>
              <a:custGeom>
                <a:avLst/>
                <a:gdLst/>
                <a:ahLst/>
                <a:rect l="0" t="0" r="r" b="b"/>
                <a:pathLst>
                  <a:path w="3366" h="4719">
                    <a:moveTo>
                      <a:pt x="2550" y="4719"/>
                    </a:moveTo>
                    <a:lnTo>
                      <a:pt x="2492" y="4648"/>
                    </a:lnTo>
                    <a:lnTo>
                      <a:pt x="2439" y="4591"/>
                    </a:lnTo>
                    <a:lnTo>
                      <a:pt x="2364" y="4551"/>
                    </a:lnTo>
                    <a:lnTo>
                      <a:pt x="2289" y="4520"/>
                    </a:lnTo>
                    <a:lnTo>
                      <a:pt x="2227" y="4463"/>
                    </a:lnTo>
                    <a:lnTo>
                      <a:pt x="2170" y="4410"/>
                    </a:lnTo>
                    <a:lnTo>
                      <a:pt x="2100" y="4379"/>
                    </a:lnTo>
                    <a:lnTo>
                      <a:pt x="2042" y="4291"/>
                    </a:lnTo>
                    <a:lnTo>
                      <a:pt x="1976" y="4238"/>
                    </a:lnTo>
                    <a:lnTo>
                      <a:pt x="1923" y="4185"/>
                    </a:lnTo>
                    <a:lnTo>
                      <a:pt x="1857" y="4128"/>
                    </a:lnTo>
                    <a:lnTo>
                      <a:pt x="1808" y="4040"/>
                    </a:lnTo>
                    <a:lnTo>
                      <a:pt x="1760" y="3965"/>
                    </a:lnTo>
                    <a:lnTo>
                      <a:pt x="1742" y="3868"/>
                    </a:lnTo>
                    <a:lnTo>
                      <a:pt x="1689" y="3793"/>
                    </a:lnTo>
                    <a:lnTo>
                      <a:pt x="1641" y="3713"/>
                    </a:lnTo>
                    <a:lnTo>
                      <a:pt x="1584" y="3634"/>
                    </a:lnTo>
                    <a:lnTo>
                      <a:pt x="1597" y="3550"/>
                    </a:lnTo>
                    <a:lnTo>
                      <a:pt x="1601" y="3462"/>
                    </a:lnTo>
                    <a:lnTo>
                      <a:pt x="1610" y="3378"/>
                    </a:lnTo>
                    <a:lnTo>
                      <a:pt x="1619" y="3299"/>
                    </a:lnTo>
                    <a:lnTo>
                      <a:pt x="1628" y="3215"/>
                    </a:lnTo>
                    <a:lnTo>
                      <a:pt x="1632" y="3127"/>
                    </a:lnTo>
                    <a:lnTo>
                      <a:pt x="1650" y="3043"/>
                    </a:lnTo>
                    <a:lnTo>
                      <a:pt x="1650" y="2964"/>
                    </a:lnTo>
                    <a:lnTo>
                      <a:pt x="1663" y="2880"/>
                    </a:lnTo>
                    <a:lnTo>
                      <a:pt x="1694" y="2809"/>
                    </a:lnTo>
                    <a:lnTo>
                      <a:pt x="1676" y="2717"/>
                    </a:lnTo>
                    <a:lnTo>
                      <a:pt x="1667" y="2624"/>
                    </a:lnTo>
                    <a:lnTo>
                      <a:pt x="1619" y="2510"/>
                    </a:lnTo>
                    <a:lnTo>
                      <a:pt x="1632" y="2426"/>
                    </a:lnTo>
                    <a:lnTo>
                      <a:pt x="1584" y="2328"/>
                    </a:lnTo>
                    <a:lnTo>
                      <a:pt x="1575" y="2235"/>
                    </a:lnTo>
                    <a:lnTo>
                      <a:pt x="1522" y="2147"/>
                    </a:lnTo>
                    <a:lnTo>
                      <a:pt x="1500" y="2059"/>
                    </a:lnTo>
                    <a:lnTo>
                      <a:pt x="1456" y="1979"/>
                    </a:lnTo>
                    <a:lnTo>
                      <a:pt x="1434" y="1887"/>
                    </a:lnTo>
                    <a:lnTo>
                      <a:pt x="1394" y="1777"/>
                    </a:lnTo>
                    <a:lnTo>
                      <a:pt x="1354" y="1702"/>
                    </a:lnTo>
                    <a:lnTo>
                      <a:pt x="1288" y="1640"/>
                    </a:lnTo>
                    <a:lnTo>
                      <a:pt x="1235" y="1561"/>
                    </a:lnTo>
                    <a:lnTo>
                      <a:pt x="1173" y="1508"/>
                    </a:lnTo>
                    <a:lnTo>
                      <a:pt x="1125" y="1424"/>
                    </a:lnTo>
                    <a:lnTo>
                      <a:pt x="1046" y="1393"/>
                    </a:lnTo>
                    <a:lnTo>
                      <a:pt x="971" y="1358"/>
                    </a:lnTo>
                    <a:lnTo>
                      <a:pt x="874" y="1314"/>
                    </a:lnTo>
                    <a:lnTo>
                      <a:pt x="806" y="1287"/>
                    </a:lnTo>
                    <a:lnTo>
                      <a:pt x="736" y="1252"/>
                    </a:lnTo>
                    <a:lnTo>
                      <a:pt x="661" y="1221"/>
                    </a:lnTo>
                    <a:lnTo>
                      <a:pt x="595" y="1164"/>
                    </a:lnTo>
                    <a:lnTo>
                      <a:pt x="542" y="1102"/>
                    </a:lnTo>
                    <a:lnTo>
                      <a:pt x="476" y="1045"/>
                    </a:lnTo>
                    <a:lnTo>
                      <a:pt x="410" y="992"/>
                    </a:lnTo>
                    <a:lnTo>
                      <a:pt x="352" y="934"/>
                    </a:lnTo>
                    <a:lnTo>
                      <a:pt x="277" y="908"/>
                    </a:lnTo>
                    <a:lnTo>
                      <a:pt x="220" y="842"/>
                    </a:lnTo>
                    <a:lnTo>
                      <a:pt x="163" y="762"/>
                    </a:lnTo>
                    <a:lnTo>
                      <a:pt x="123" y="687"/>
                    </a:lnTo>
                    <a:lnTo>
                      <a:pt x="101" y="599"/>
                    </a:lnTo>
                    <a:lnTo>
                      <a:pt x="39" y="529"/>
                    </a:lnTo>
                    <a:lnTo>
                      <a:pt x="44" y="458"/>
                    </a:lnTo>
                    <a:lnTo>
                      <a:pt x="0" y="343"/>
                    </a:lnTo>
                    <a:lnTo>
                      <a:pt x="17" y="260"/>
                    </a:lnTo>
                    <a:lnTo>
                      <a:pt x="17" y="185"/>
                    </a:lnTo>
                    <a:lnTo>
                      <a:pt x="35" y="101"/>
                    </a:lnTo>
                    <a:lnTo>
                      <a:pt x="17" y="0"/>
                    </a:lnTo>
                    <a:lnTo>
                      <a:pt x="101" y="13"/>
                    </a:lnTo>
                    <a:lnTo>
                      <a:pt x="176" y="44"/>
                    </a:lnTo>
                    <a:lnTo>
                      <a:pt x="220" y="119"/>
                    </a:lnTo>
                    <a:lnTo>
                      <a:pt x="282" y="185"/>
                    </a:lnTo>
                    <a:lnTo>
                      <a:pt x="304" y="277"/>
                    </a:lnTo>
                    <a:lnTo>
                      <a:pt x="343" y="352"/>
                    </a:lnTo>
                    <a:lnTo>
                      <a:pt x="392" y="463"/>
                    </a:lnTo>
                    <a:lnTo>
                      <a:pt x="458" y="520"/>
                    </a:lnTo>
                    <a:lnTo>
                      <a:pt x="529" y="551"/>
                    </a:lnTo>
                    <a:lnTo>
                      <a:pt x="595" y="586"/>
                    </a:lnTo>
                    <a:lnTo>
                      <a:pt x="661" y="639"/>
                    </a:lnTo>
                    <a:lnTo>
                      <a:pt x="727" y="696"/>
                    </a:lnTo>
                    <a:lnTo>
                      <a:pt x="789" y="727"/>
                    </a:lnTo>
                    <a:lnTo>
                      <a:pt x="869" y="754"/>
                    </a:lnTo>
                    <a:lnTo>
                      <a:pt x="940" y="789"/>
                    </a:lnTo>
                    <a:lnTo>
                      <a:pt x="1015" y="829"/>
                    </a:lnTo>
                    <a:lnTo>
                      <a:pt x="1085" y="851"/>
                    </a:lnTo>
                    <a:lnTo>
                      <a:pt x="1156" y="886"/>
                    </a:lnTo>
                    <a:lnTo>
                      <a:pt x="1235" y="921"/>
                    </a:lnTo>
                    <a:lnTo>
                      <a:pt x="1306" y="956"/>
                    </a:lnTo>
                    <a:lnTo>
                      <a:pt x="1376" y="983"/>
                    </a:lnTo>
                    <a:lnTo>
                      <a:pt x="1447" y="1014"/>
                    </a:lnTo>
                    <a:lnTo>
                      <a:pt x="1526" y="1053"/>
                    </a:lnTo>
                    <a:lnTo>
                      <a:pt x="1584" y="1102"/>
                    </a:lnTo>
                    <a:lnTo>
                      <a:pt x="1659" y="1133"/>
                    </a:lnTo>
                    <a:lnTo>
                      <a:pt x="1729" y="1164"/>
                    </a:lnTo>
                    <a:lnTo>
                      <a:pt x="1791" y="1230"/>
                    </a:lnTo>
                    <a:lnTo>
                      <a:pt x="1835" y="1309"/>
                    </a:lnTo>
                    <a:lnTo>
                      <a:pt x="1901" y="1358"/>
                    </a:lnTo>
                    <a:lnTo>
                      <a:pt x="1967" y="1424"/>
                    </a:lnTo>
                    <a:lnTo>
                      <a:pt x="2007" y="1525"/>
                    </a:lnTo>
                    <a:lnTo>
                      <a:pt x="2051" y="1605"/>
                    </a:lnTo>
                    <a:lnTo>
                      <a:pt x="2091" y="1715"/>
                    </a:lnTo>
                    <a:lnTo>
                      <a:pt x="2148" y="1790"/>
                    </a:lnTo>
                    <a:lnTo>
                      <a:pt x="2192" y="1869"/>
                    </a:lnTo>
                    <a:lnTo>
                      <a:pt x="2214" y="1962"/>
                    </a:lnTo>
                    <a:lnTo>
                      <a:pt x="2267" y="2050"/>
                    </a:lnTo>
                    <a:lnTo>
                      <a:pt x="2316" y="2125"/>
                    </a:lnTo>
                    <a:lnTo>
                      <a:pt x="2355" y="2226"/>
                    </a:lnTo>
                    <a:lnTo>
                      <a:pt x="2404" y="2315"/>
                    </a:lnTo>
                    <a:lnTo>
                      <a:pt x="2470" y="2373"/>
                    </a:lnTo>
                    <a:lnTo>
                      <a:pt x="2523" y="2448"/>
                    </a:lnTo>
                    <a:lnTo>
                      <a:pt x="2581" y="2501"/>
                    </a:lnTo>
                    <a:lnTo>
                      <a:pt x="2634" y="2589"/>
                    </a:lnTo>
                    <a:lnTo>
                      <a:pt x="2687" y="2646"/>
                    </a:lnTo>
                    <a:lnTo>
                      <a:pt x="2766" y="2673"/>
                    </a:lnTo>
                    <a:lnTo>
                      <a:pt x="2828" y="2730"/>
                    </a:lnTo>
                    <a:lnTo>
                      <a:pt x="2899" y="2761"/>
                    </a:lnTo>
                    <a:lnTo>
                      <a:pt x="2974" y="2792"/>
                    </a:lnTo>
                    <a:lnTo>
                      <a:pt x="3031" y="2858"/>
                    </a:lnTo>
                    <a:lnTo>
                      <a:pt x="3106" y="2889"/>
                    </a:lnTo>
                    <a:lnTo>
                      <a:pt x="3172" y="2946"/>
                    </a:lnTo>
                    <a:lnTo>
                      <a:pt x="3229" y="2999"/>
                    </a:lnTo>
                    <a:lnTo>
                      <a:pt x="3304" y="3030"/>
                    </a:lnTo>
                    <a:lnTo>
                      <a:pt x="3366" y="3083"/>
                    </a:lnTo>
                    <a:lnTo>
                      <a:pt x="2550" y="4719"/>
                    </a:lnTo>
                    <a:close/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3352680" y="2362320"/>
              <a:ext cx="2209680" cy="2209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33920" y="2666880"/>
              <a:ext cx="1523880" cy="16002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elekom</dc:creator>
  <dc:description/>
  <dc:language>en-US</dc:language>
  <cp:lastModifiedBy>Telekom</cp:lastModifiedBy>
  <cp:revision>0</cp:revision>
  <dc:subject/>
  <dc:title>Kein Folientitel</dc:title>
</cp:coreProperties>
</file>